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20244-AF1C-40DF-8124-3F4ECEE5446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8511C-6939-4155-9D78-D99CB849A7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597" name="PlaceHolder 1"/>
          <p:cNvSpPr>
            <a:spLocks noGrp="1"/>
          </p:cNvSpPr>
          <p:nvPr>
            <p:ph type="sldImg"/>
          </p:nvPr>
        </p:nvSpPr>
        <p:spPr>
          <a:xfrm>
            <a:off x="985680" y="733320"/>
            <a:ext cx="4886640" cy="3665520"/>
          </a:xfrm>
          <a:prstGeom prst="rect">
            <a:avLst/>
          </a:prstGeom>
          <a:ln w="0">
            <a:noFill/>
          </a:ln>
        </p:spPr>
      </p:sp>
      <p:sp>
        <p:nvSpPr>
          <p:cNvPr id="65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169BD-E7C0-4406-BD02-E1F5FFB9BF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A3D34-E6B8-4927-B56B-36F5C5461A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3" name="PlaceHolder 1"/>
          <p:cNvSpPr>
            <a:spLocks noGrp="1"/>
          </p:cNvSpPr>
          <p:nvPr>
            <p:ph type="sldImg"/>
          </p:nvPr>
        </p:nvSpPr>
        <p:spPr>
          <a:xfrm>
            <a:off x="985680" y="741240"/>
            <a:ext cx="4886640" cy="3665520"/>
          </a:xfrm>
          <a:prstGeom prst="rect">
            <a:avLst/>
          </a:prstGeom>
          <a:ln w="0">
            <a:noFill/>
          </a:ln>
        </p:spPr>
      </p:sp>
      <p:sp>
        <p:nvSpPr>
          <p:cNvPr id="6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AE804-7011-4EAC-BB32-1654C962AF4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E4ACD-CA22-44DD-AF61-3A23D2A1E4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7" name="PlaceHolder 1"/>
          <p:cNvSpPr>
            <a:spLocks noGrp="1"/>
          </p:cNvSpPr>
          <p:nvPr>
            <p:ph type="sldImg"/>
          </p:nvPr>
        </p:nvSpPr>
        <p:spPr>
          <a:xfrm>
            <a:off x="985680" y="741240"/>
            <a:ext cx="4886640" cy="3665520"/>
          </a:xfrm>
          <a:prstGeom prst="rect">
            <a:avLst/>
          </a:prstGeom>
          <a:ln w="0">
            <a:noFill/>
          </a:ln>
        </p:spPr>
      </p:sp>
      <p:sp>
        <p:nvSpPr>
          <p:cNvPr id="6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DEDB1-08BD-48B5-A8D0-F9BC6399B9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51765-594C-4B61-8086-34FDC3C557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1" name="PlaceHolder 1"/>
          <p:cNvSpPr>
            <a:spLocks noGrp="1"/>
          </p:cNvSpPr>
          <p:nvPr>
            <p:ph type="sldImg"/>
          </p:nvPr>
        </p:nvSpPr>
        <p:spPr>
          <a:xfrm>
            <a:off x="985680" y="741240"/>
            <a:ext cx="4886640" cy="3665520"/>
          </a:xfrm>
          <a:prstGeom prst="rect">
            <a:avLst/>
          </a:prstGeom>
          <a:ln w="0">
            <a:noFill/>
          </a:ln>
        </p:spPr>
      </p:sp>
      <p:sp>
        <p:nvSpPr>
          <p:cNvPr id="6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BB77F-6C1A-4552-A83E-1C26BA235F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A5EF4-9094-4663-B9E0-574D3D1890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5" name="PlaceHolder 1"/>
          <p:cNvSpPr>
            <a:spLocks noGrp="1"/>
          </p:cNvSpPr>
          <p:nvPr>
            <p:ph type="sldImg"/>
          </p:nvPr>
        </p:nvSpPr>
        <p:spPr>
          <a:xfrm>
            <a:off x="985680" y="741240"/>
            <a:ext cx="4886640" cy="3665520"/>
          </a:xfrm>
          <a:prstGeom prst="rect">
            <a:avLst/>
          </a:prstGeom>
          <a:ln w="0">
            <a:noFill/>
          </a:ln>
        </p:spPr>
      </p:sp>
      <p:sp>
        <p:nvSpPr>
          <p:cNvPr id="6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B0BC8-1C29-4ECC-9FC8-E9C03878BA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F866E-7D27-4386-AD78-4681DB6661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9" name="PlaceHolder 1"/>
          <p:cNvSpPr>
            <a:spLocks noGrp="1"/>
          </p:cNvSpPr>
          <p:nvPr>
            <p:ph type="sldImg"/>
          </p:nvPr>
        </p:nvSpPr>
        <p:spPr>
          <a:xfrm>
            <a:off x="985680" y="741240"/>
            <a:ext cx="4886640" cy="3665520"/>
          </a:xfrm>
          <a:prstGeom prst="rect">
            <a:avLst/>
          </a:prstGeom>
          <a:ln w="0">
            <a:noFill/>
          </a:ln>
        </p:spPr>
      </p:sp>
      <p:sp>
        <p:nvSpPr>
          <p:cNvPr id="6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5B821-5982-4AFC-999B-E5A62A4825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80672-9CFD-4CE8-B953-40D58148A3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3" name="PlaceHolder 1"/>
          <p:cNvSpPr>
            <a:spLocks noGrp="1"/>
          </p:cNvSpPr>
          <p:nvPr>
            <p:ph type="sldImg"/>
          </p:nvPr>
        </p:nvSpPr>
        <p:spPr>
          <a:xfrm>
            <a:off x="985680" y="741240"/>
            <a:ext cx="4886640" cy="3665520"/>
          </a:xfrm>
          <a:prstGeom prst="rect">
            <a:avLst/>
          </a:prstGeom>
          <a:ln w="0">
            <a:noFill/>
          </a:ln>
        </p:spPr>
      </p:sp>
      <p:sp>
        <p:nvSpPr>
          <p:cNvPr id="6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B90BC-12DA-45F1-B5C2-C958A1CCB8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C416E-02E4-4E0E-9DB6-D588EC45138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7" name="PlaceHolder 1"/>
          <p:cNvSpPr>
            <a:spLocks noGrp="1"/>
          </p:cNvSpPr>
          <p:nvPr>
            <p:ph type="sldImg"/>
          </p:nvPr>
        </p:nvSpPr>
        <p:spPr>
          <a:xfrm>
            <a:off x="985680" y="741240"/>
            <a:ext cx="4886640" cy="3665520"/>
          </a:xfrm>
          <a:prstGeom prst="rect">
            <a:avLst/>
          </a:prstGeom>
          <a:ln w="0">
            <a:noFill/>
          </a:ln>
        </p:spPr>
      </p:sp>
      <p:sp>
        <p:nvSpPr>
          <p:cNvPr id="6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AFE3B-B263-4696-8E27-77C348C229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CAD1C-7BD7-460F-A309-AC86AACC50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1" name="PlaceHolder 1"/>
          <p:cNvSpPr>
            <a:spLocks noGrp="1"/>
          </p:cNvSpPr>
          <p:nvPr>
            <p:ph type="sldImg"/>
          </p:nvPr>
        </p:nvSpPr>
        <p:spPr>
          <a:xfrm>
            <a:off x="985680" y="741240"/>
            <a:ext cx="4886640" cy="3665520"/>
          </a:xfrm>
          <a:prstGeom prst="rect">
            <a:avLst/>
          </a:prstGeom>
          <a:ln w="0">
            <a:noFill/>
          </a:ln>
        </p:spPr>
      </p:sp>
      <p:sp>
        <p:nvSpPr>
          <p:cNvPr id="6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ABE35-A175-456A-8976-BC065753B8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1B8B1-A860-4303-9145-59AE385263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5" name="PlaceHolder 1"/>
          <p:cNvSpPr>
            <a:spLocks noGrp="1"/>
          </p:cNvSpPr>
          <p:nvPr>
            <p:ph type="sldImg"/>
          </p:nvPr>
        </p:nvSpPr>
        <p:spPr>
          <a:xfrm>
            <a:off x="985680" y="741240"/>
            <a:ext cx="4886640" cy="3665520"/>
          </a:xfrm>
          <a:prstGeom prst="rect">
            <a:avLst/>
          </a:prstGeom>
          <a:ln w="0">
            <a:noFill/>
          </a:ln>
        </p:spPr>
      </p:sp>
      <p:sp>
        <p:nvSpPr>
          <p:cNvPr id="6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71BEB-719C-4685-920F-322CC27B74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EA475-9410-4E47-93D1-29C9956FC0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9" name="PlaceHolder 1"/>
          <p:cNvSpPr>
            <a:spLocks noGrp="1"/>
          </p:cNvSpPr>
          <p:nvPr>
            <p:ph type="sldImg"/>
          </p:nvPr>
        </p:nvSpPr>
        <p:spPr>
          <a:xfrm>
            <a:off x="985680" y="741240"/>
            <a:ext cx="4886640" cy="3665520"/>
          </a:xfrm>
          <a:prstGeom prst="rect">
            <a:avLst/>
          </a:prstGeom>
          <a:ln w="0">
            <a:noFill/>
          </a:ln>
        </p:spPr>
      </p:sp>
      <p:sp>
        <p:nvSpPr>
          <p:cNvPr id="6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5ABD8-DB56-4245-9B21-451E9AECE0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88866-2777-4DB9-AA9C-0C6E2E6901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1" name="PlaceHolder 1"/>
          <p:cNvSpPr>
            <a:spLocks noGrp="1"/>
          </p:cNvSpPr>
          <p:nvPr>
            <p:ph type="sldImg"/>
          </p:nvPr>
        </p:nvSpPr>
        <p:spPr>
          <a:xfrm>
            <a:off x="985680" y="741240"/>
            <a:ext cx="4886640" cy="3665520"/>
          </a:xfrm>
          <a:prstGeom prst="rect">
            <a:avLst/>
          </a:prstGeom>
          <a:ln w="0">
            <a:noFill/>
          </a:ln>
        </p:spPr>
      </p:sp>
      <p:sp>
        <p:nvSpPr>
          <p:cNvPr id="6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EA43C-7152-48A1-AF81-25A9DCEAA43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1771D-58AA-4C02-A76F-A161062130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3" name="PlaceHolder 1"/>
          <p:cNvSpPr>
            <a:spLocks noGrp="1"/>
          </p:cNvSpPr>
          <p:nvPr>
            <p:ph type="sldImg"/>
          </p:nvPr>
        </p:nvSpPr>
        <p:spPr>
          <a:xfrm>
            <a:off x="985680" y="741240"/>
            <a:ext cx="4886640" cy="3665520"/>
          </a:xfrm>
          <a:prstGeom prst="rect">
            <a:avLst/>
          </a:prstGeom>
          <a:ln w="0">
            <a:noFill/>
          </a:ln>
        </p:spPr>
      </p:sp>
      <p:sp>
        <p:nvSpPr>
          <p:cNvPr id="6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9DB2B-E82D-4B71-BDDA-85BEA594660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1AB3B-F993-4B21-BEA8-D80AA72783D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7" name="PlaceHolder 1"/>
          <p:cNvSpPr>
            <a:spLocks noGrp="1"/>
          </p:cNvSpPr>
          <p:nvPr>
            <p:ph type="sldImg"/>
          </p:nvPr>
        </p:nvSpPr>
        <p:spPr>
          <a:xfrm>
            <a:off x="985680" y="741240"/>
            <a:ext cx="4886640" cy="3665520"/>
          </a:xfrm>
          <a:prstGeom prst="rect">
            <a:avLst/>
          </a:prstGeom>
          <a:ln w="0">
            <a:noFill/>
          </a:ln>
        </p:spPr>
      </p:sp>
      <p:sp>
        <p:nvSpPr>
          <p:cNvPr id="6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B4363-0468-446F-A558-473655BD49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C9BDC-86CF-4741-B6D0-372F97BD2B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1" name="PlaceHolder 1"/>
          <p:cNvSpPr>
            <a:spLocks noGrp="1"/>
          </p:cNvSpPr>
          <p:nvPr>
            <p:ph type="sldImg"/>
          </p:nvPr>
        </p:nvSpPr>
        <p:spPr>
          <a:xfrm>
            <a:off x="985680" y="741240"/>
            <a:ext cx="4886640" cy="3665520"/>
          </a:xfrm>
          <a:prstGeom prst="rect">
            <a:avLst/>
          </a:prstGeom>
          <a:ln w="0">
            <a:noFill/>
          </a:ln>
        </p:spPr>
      </p:sp>
      <p:sp>
        <p:nvSpPr>
          <p:cNvPr id="6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C2547-31BF-4E56-90DA-27E96D5903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33320"/>
            <a:ext cx="4886640" cy="3665520"/>
          </a:xfrm>
          <a:prstGeom prst="rect">
            <a:avLst/>
          </a:prstGeom>
          <a:ln w="0">
            <a:noFill/>
          </a:ln>
        </p:spPr>
      </p:sp>
      <p:sp>
        <p:nvSpPr>
          <p:cNvPr id="66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49829-BE46-4098-BC1A-D4C2BB7C3C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98288-638E-4222-BB79-2A35A82E2F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5" name="PlaceHolder 1"/>
          <p:cNvSpPr>
            <a:spLocks noGrp="1"/>
          </p:cNvSpPr>
          <p:nvPr>
            <p:ph type="sldImg"/>
          </p:nvPr>
        </p:nvSpPr>
        <p:spPr>
          <a:xfrm>
            <a:off x="985680" y="741240"/>
            <a:ext cx="4886640" cy="3665520"/>
          </a:xfrm>
          <a:prstGeom prst="rect">
            <a:avLst/>
          </a:prstGeom>
          <a:ln w="0">
            <a:noFill/>
          </a:ln>
        </p:spPr>
      </p:sp>
      <p:sp>
        <p:nvSpPr>
          <p:cNvPr id="6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DBAC8-70D5-477F-A254-5F7B11202C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5DB6F-6516-4C6F-8A45-DE964D455E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9" name="PlaceHolder 1"/>
          <p:cNvSpPr>
            <a:spLocks noGrp="1"/>
          </p:cNvSpPr>
          <p:nvPr>
            <p:ph type="sldImg"/>
          </p:nvPr>
        </p:nvSpPr>
        <p:spPr>
          <a:xfrm>
            <a:off x="985680" y="741240"/>
            <a:ext cx="4886640" cy="3665520"/>
          </a:xfrm>
          <a:prstGeom prst="rect">
            <a:avLst/>
          </a:prstGeom>
          <a:ln w="0">
            <a:noFill/>
          </a:ln>
        </p:spPr>
      </p:sp>
      <p:sp>
        <p:nvSpPr>
          <p:cNvPr id="6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83E1B-007B-41A5-A30E-083C9D0DF4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346F3-C3CD-446D-A4A5-87179EC49A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3" name="PlaceHolder 1"/>
          <p:cNvSpPr>
            <a:spLocks noGrp="1"/>
          </p:cNvSpPr>
          <p:nvPr>
            <p:ph type="sldImg"/>
          </p:nvPr>
        </p:nvSpPr>
        <p:spPr>
          <a:xfrm>
            <a:off x="985680" y="741240"/>
            <a:ext cx="4886640" cy="3665520"/>
          </a:xfrm>
          <a:prstGeom prst="rect">
            <a:avLst/>
          </a:prstGeom>
          <a:ln w="0">
            <a:noFill/>
          </a:ln>
        </p:spPr>
      </p:sp>
      <p:sp>
        <p:nvSpPr>
          <p:cNvPr id="6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70445-EB0B-4F11-BCD3-5B7F4531EB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B3CF0-DAA5-47E9-8847-BD2025C8D8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7" name="PlaceHolder 1"/>
          <p:cNvSpPr>
            <a:spLocks noGrp="1"/>
          </p:cNvSpPr>
          <p:nvPr>
            <p:ph type="sldImg"/>
          </p:nvPr>
        </p:nvSpPr>
        <p:spPr>
          <a:xfrm>
            <a:off x="985680" y="741240"/>
            <a:ext cx="4886640" cy="3665520"/>
          </a:xfrm>
          <a:prstGeom prst="rect">
            <a:avLst/>
          </a:prstGeom>
          <a:ln w="0">
            <a:noFill/>
          </a:ln>
        </p:spPr>
      </p:sp>
      <p:sp>
        <p:nvSpPr>
          <p:cNvPr id="6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373DE-2C62-460E-AD5C-ABB51B6E065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53FC2-49A2-4150-A09A-0E2B478EBC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1" name="PlaceHolder 1"/>
          <p:cNvSpPr>
            <a:spLocks noGrp="1"/>
          </p:cNvSpPr>
          <p:nvPr>
            <p:ph type="sldImg"/>
          </p:nvPr>
        </p:nvSpPr>
        <p:spPr>
          <a:xfrm>
            <a:off x="985680" y="741240"/>
            <a:ext cx="4886640" cy="3665520"/>
          </a:xfrm>
          <a:prstGeom prst="rect">
            <a:avLst/>
          </a:prstGeom>
          <a:ln w="0">
            <a:noFill/>
          </a:ln>
        </p:spPr>
      </p:sp>
      <p:sp>
        <p:nvSpPr>
          <p:cNvPr id="6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701B0-1E4F-4E04-947D-A0AF0E3102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1CDA2-8DF7-4741-B8D6-59F35BC20C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5" name="PlaceHolder 1"/>
          <p:cNvSpPr>
            <a:spLocks noGrp="1"/>
          </p:cNvSpPr>
          <p:nvPr>
            <p:ph type="sldImg"/>
          </p:nvPr>
        </p:nvSpPr>
        <p:spPr>
          <a:xfrm>
            <a:off x="985680" y="741240"/>
            <a:ext cx="4886640" cy="3665520"/>
          </a:xfrm>
          <a:prstGeom prst="rect">
            <a:avLst/>
          </a:prstGeom>
          <a:ln w="0">
            <a:noFill/>
          </a:ln>
        </p:spPr>
      </p:sp>
      <p:sp>
        <p:nvSpPr>
          <p:cNvPr id="6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E033D-3614-4535-87D9-1D9D9AEFFD2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FFAC0-475C-4950-ACC3-0207B901A7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9" name="PlaceHolder 1"/>
          <p:cNvSpPr>
            <a:spLocks noGrp="1"/>
          </p:cNvSpPr>
          <p:nvPr>
            <p:ph type="sldImg"/>
          </p:nvPr>
        </p:nvSpPr>
        <p:spPr>
          <a:xfrm>
            <a:off x="985680" y="741240"/>
            <a:ext cx="4886640" cy="3665520"/>
          </a:xfrm>
          <a:prstGeom prst="rect">
            <a:avLst/>
          </a:prstGeom>
          <a:ln w="0">
            <a:noFill/>
          </a:ln>
        </p:spPr>
      </p:sp>
      <p:sp>
        <p:nvSpPr>
          <p:cNvPr id="6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18087-FCC1-471F-966F-4033F1586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40F6EFF-42D7-4F6E-8B64-FA0606D63D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DD96626-E1DD-410B-926D-D9061D8A523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A731D21D-6721-4036-A042-D9EEDFDF0291}"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E37021FE-DF8E-41CE-9E1C-EE74D7F075FC}"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F6E95655-2BB7-4FC2-A1B5-9D4AD041EFED}"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CAE2C26-0870-4CC8-8B82-26BC97FA2CD2}"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F697DA29-261D-4F1E-A65F-C325BC31B7FD}"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F30A8CA-493D-451A-AA30-44C7BDEED858}"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40B9604F-462B-4DA4-868D-2BB41CAC7068}"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6D84CCA6-185E-4BAB-89C2-F643EBB3FD9D}"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80CFE5AE-B118-425D-BD30-E457AF2C1853}"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9248791A-471B-42CD-B23B-7E51A3304F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B68E597-9B7D-459D-B485-1C26AC9D0ADC}"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8CB5396-8157-4615-93ED-DB5B1E5A9139}"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780D87F-9244-461B-93CC-9914B52EF415}"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3A51B279-D181-4C66-8E06-08918FF2EC49}"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3503AF7B-9231-4486-AEBA-291BBBC84B76}"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ADC0D53C-6D73-4078-B948-42B10A2A3C56}"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1F31980A-B905-4F76-9ED5-DDCA65D81BA7}"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AEE5549-E8DB-469F-B86B-3F64A5E4D46D}"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64794C9-9659-49FD-B1A6-BB9081DC4DC1}"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07600280-76F9-4B75-9CD7-9B5DFD19006A}"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4254FA68-2DB3-4956-AE07-C255A8CDCD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B19096A-D434-4EA1-A392-4D75F5E18473}"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2AEF7767-1CD1-4C43-99F6-3C4DF445D50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055588E8-2FF6-442F-AFC6-3EDC69674CCB}"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1B326134-E744-4D1E-B763-B8C875E8B1B5}"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29C1DFF4-EBD4-4F26-8B7A-0AD13E484236}"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6A33500F-8593-4CBA-98C6-762B530BD6FD}"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AAC9A676-ED9E-4617-9DA7-003B5A7743F1}"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ECA9082E-6C9F-4EBD-A78D-4B39DE640F85}"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0528A02-CAAC-42DB-8C1C-A7F0DF43273E}"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D0F526A-B5A3-441E-9A76-C6A76AAEE06B}"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9B89DD1-6E6A-4202-A418-D434BA3B32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7381010-A06D-4B0A-ADA1-97C2640BD068}"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4BAC56B1-1893-4C01-8B3B-91FF1E7F4BFA}"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2A4DA54F-579C-4A22-B34A-F1B597C83A9D}"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012DABEA-4E29-477B-9593-45F3FF0E7010}"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A5B096A0-EE1D-4004-B566-D1B1BCD8696D}"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F970C905-9284-4823-8584-15F3AA71173E}"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5A4F1D0B-E799-46D3-B3C1-B0B7491F8E89}"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1CC913BE-2CB3-4CCB-A633-35F41B4ACB0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A1A6C684-C6CD-4AD8-BB8E-EB9ACDFA6B5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3D13F8EA-CFD2-4083-9A3B-23CB84B24D1E}"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082D464-1D9C-4D7F-B4D8-CF4FE3C546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EB6AF18-8F6A-43FE-B855-F639D67663FF}"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D7B7BD4-04B2-48A1-8CF1-D992EE4CC784}"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67AB6D0-A099-4764-AC9C-D94FE37F72C4}"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084D54E4-ACDF-499C-8767-9C9E817226B5}"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B0E4A895-A50D-4151-B64F-F0BC473C28C4}"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D8E3614C-E638-4D96-AC6A-EE188CAA8700}"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337D5EC-0FBE-456C-8CE0-AD24C83042CB}"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A2EA1648-4DBA-4D65-8956-245E07718630}"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7060A32E-94C3-4C14-94EB-04393844B421}"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D15F0A5A-F1D8-4647-8A2B-EF2AC059A207}"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769218CE-4FB1-468E-9B45-E35812550A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C46F715-5090-4E1B-A663-752519302C27}"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FCECD92A-05EF-4DB8-829C-D4F57FC25ECF}"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6CB5FFDE-9F40-42F7-A198-636E205F1AA3}"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04EE703F-7566-49A3-880B-2E48CE186B71}"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C8E5FA2-7C0E-4DF1-8915-E931A46FD975}"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00267BE4-616D-43B9-8413-8755D1F85E7D}"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12D2FCCA-6700-4528-97FD-F9C6A9D3F34C}"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3B559494-661F-4D1C-B22B-578FE2CA0D13}"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7CE07BED-58E7-41E3-A671-6D5264248063}"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4EFB9528-84A0-4456-AC8D-E5936D8AC76F}"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AB08D6A9-B5F3-4CE5-BA93-AD7E9E8186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1F5910C-1056-45AF-AC5C-5CF17F7C0DAA}"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B7D45AF5-5C27-4E88-902D-234C347145DC}"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FB14B433-D108-45CE-82F6-E69CDB8E147E}"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AFA93987-E775-4402-96F4-3A0D9FB9E6DF}"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31E6489-2D7B-44AF-8616-0DDFC3F36F1A}"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F9CAD5F-85B9-46A8-A653-52D8062DF271}"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F2C50C4E-EE59-48EA-8267-7875C3DCACA0}"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C88B2C2D-41E5-4959-82C2-AA102E743C92}"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A19EA1AE-83FD-46D3-AF7D-885A08344E00}"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ED07BF99-280B-4AF4-A58F-243631AC2A1E}"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B41C18F8-57DF-448D-8628-F08703ED7B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450194E-757F-437B-9954-EF1D7E8C7246}"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5B8F85BA-D149-4196-AD10-4B365F29C4DB}"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D4C9A2D0-BC20-4077-9F13-8F840605472A}"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36D93B20-25A4-478A-B92C-BF96E24C0124}"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EA0EC5A4-CBA7-4B8C-857D-D9B58F39D3E0}"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5409A693-DF54-4530-BF03-7DFCF1AEA082}"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0BD2F7CE-6703-4926-AF17-EA1829F63A4C}"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E02E421-7B9B-48CF-8EFF-EDB7E37EF6F1}"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680E963-3EDF-4E77-9FCE-06821064A103}"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0393DCFB-7639-4363-9881-BE51ABEBD569}"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2C561F73-C2F2-453C-9DBD-C44ADD3356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2559491-DF10-43F8-B4BD-D458EEDC81E4}"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0353AF9C-B523-4B9E-B715-8A3A909515B3}"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CA1CB027-B4A5-4891-AB03-3D4F91F232D5}"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4808992-5F02-48F6-89A2-37DF1DC14B27}"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FF385EA9-5459-468D-897A-3557E51B687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2BE5698D-D68D-48BF-8BB6-64D467AE3F6D}"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C9E094E5-F2F3-405B-BABD-4BB77B7F42D7}"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1A5E183D-2B2B-4940-9F3F-EA5A271C620B}"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3C0A9685-C834-45E7-893A-AB9752233969}"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F34B87B6-B0CF-47E3-A53B-2BE565A1A1C8}"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5670529-731E-4428-81BF-EED24CBB67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1CF6792-7F17-41E5-938D-C91E63C56C7F}"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3706EF8A-1A97-4DE0-89AE-DFAB6B0DD304}"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D92A0C77-164A-4DE8-BADE-EDC26CFDD040}"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B30B1CA2-8C4B-464A-8C7C-06D46B295C9D}"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D717A099-AA1A-4888-A80D-F69CE7D9CF1B}"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8FF23F75-B492-4FB8-BAD9-64934E5D2224}"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AA997F98-B743-438C-A376-6A5A6D7F564D}"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0626A458-4FEA-4284-A5B7-1EC3A0CEE4F0}"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A4AA06DB-4268-4048-A81C-B58D1A0CFA39}"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1BDA777D-22E5-4F6E-9625-600340EBDE3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D1BEA6D-1B8C-4147-A4E4-7D8512CF97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FFA736E-9764-4FCE-BF82-C0892BA49D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3390672-3896-4BA0-A060-D4BFDEF50C95}"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7FA46B62-91D3-46F9-A3F6-4A8B4343959B}"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5B55A820-30FC-49AF-81C1-DA8832ACD406}"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0675CCFE-93F3-49C5-B514-FC54AF682493}"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8A98C066-9A3E-4D1F-B374-EEF0C099A070}"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57AB83B9-BD59-4DEF-8280-58EC9756C927}"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C365EF85-4D19-45DD-AF80-2613ED361038}"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42A11C7-270C-4EE1-984A-AD95BAD17A66}"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3A150F72-66B5-40A8-95E0-AAE5D11400D2}"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8B81133D-F44F-4290-BB89-AC2F05F1DEE4}"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E78321E4-0CC6-44EA-9E80-9448B51D43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6C5382E-124A-4099-921C-7D2B60A3C220}"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BC17C687-FFDC-459B-8BB5-2C28719A0C72}"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016A696-EDAB-4BDD-9EB6-4FD7B2ECFF5E}"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3BC7A6FE-8086-4E86-B1BB-A0965F416B05}"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00837B14-065A-43A0-B8A8-0DC8C48FB21C}"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CB810AB-7FBA-4A30-B835-14D1EEE88FBC}"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857FA4EE-15B1-4D9D-84A7-87824872B12F}"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F0535685-6F5A-4671-A841-43848C478F17}"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9FCC3FD0-DEC5-470F-B75A-9DA16C57D190}"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E6719CE2-7B92-4B3B-87DE-670139D258F4}"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89588B01-5635-4DAC-B36B-C0DC249DB7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DEE9188-3956-4E08-9801-10C2AE6132BE}"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8A12418-CF66-4A1A-9DF1-FE50B38CF193}"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C90CF4FA-CE58-461B-ADA0-B39167C28A68}"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34670334-177F-4FA2-A4FA-2E01F1C50DBB}"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07CCE3A-E254-4190-888A-1E5C409FB844}"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CFC2CAC-83F8-4834-A21A-ABCAD2FAB162}"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5D533F0E-8D33-4163-B910-AAAFDC75051F}"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D5B2E9B0-DFB4-47D4-AC2D-9C655F7231D1}"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717997F5-4D17-4190-A2E7-41B49C3F0EE0}"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A40F6561-CBF9-4180-AD18-1B10272E6991}"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14E8B0F6-CAF6-454A-B0DF-A14BE1CEA1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6DC34C7-D7FA-4901-A2AB-E890C49526F9}"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330558F6-1735-4266-A9AE-688869630148}"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9B713738-0EEF-4112-85B8-55CA7A36BDF4}"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2345101-B6C4-422F-8F50-A6435D79E985}"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1A19B371-0664-4AA5-99A5-EB15E8FA0B0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6FC8D009-FC4B-49B6-B304-68A4F3C96A46}"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7E0C5C9-A2DB-4553-A135-A074F00A481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6AB65824-D167-4DD8-82B7-604AEB2FED7B}"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1018ABF-4E2A-4DA3-A2CA-20B6159EC8BA}"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54F349E3-F998-46C2-B150-77A088034024}"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2DCF24C3-18A1-4E9F-82CB-4A2C15A433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45DB176-8170-48EB-90E7-BA65DAC8CCCB}"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A75BD881-4CC4-4750-95BB-C898AED9E7BE}"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BEAF58B6-C75F-4055-B8F7-DB5888EA250F}"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50089B75-7536-4936-ADDB-B2A328D15A2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E353B18-B8A8-4FEB-9A2B-954AB94E2915}"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04F6998-4F0C-4F7E-941C-D2FAFC682049}"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3502CC8E-1C5A-4E5C-9D0D-C14C8FC0D7A4}"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0C95CED0-B99C-493D-9421-968910259EBC}"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9471A53-E9B5-4D56-BDE6-BE6BDFE990E3}"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D77A455-0C49-4D6A-BBEF-A932C4998B49}"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43AF13ED-D010-4845-A1EC-44EEE5EE0AC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D8A3E03-24DC-4A04-9188-2F8CDABB0973}"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E8573EF-3C63-4968-8433-0B49DA0A04E9}"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4FB2C8E0-37C9-44F3-9331-0853973B7BC6}"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0DC87DA2-EAE3-4316-AA7B-6A43BE5076CC}"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818D8712-9543-486F-9F9D-D28652B5E8BE}"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9443FDEA-8A28-4847-8C1B-717EDE403993}"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789BEDF2-A723-4D6C-833E-7238BFC4A44D}"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0C5F765-951C-44B8-8CA9-D0A348F4D9B6}"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7AEC5BA3-6E54-49F1-901C-E1E8FC794CB3}"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EA3A49FC-DB5F-45A0-ADB2-4259BC9F0E97}"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C1DB3C6B-C244-45D1-B788-264C00B431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EA48E2A-ADD4-4E55-9D01-812EA13A7421}"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25A9E930-6E2F-49D5-887D-76E18D67CE10}"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20EF8DB-BE9A-4EDC-93F8-76E157CA4FCF}"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72E65444-6B1A-484B-98A6-B4ADC487F93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3067CDE3-00DD-4DF4-8B2C-9BD7DAB9C815}"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28B37C0B-2284-4A3B-880B-2D6C9EF0A9FE}"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AE6579A1-687E-4B67-B06F-640AE927C815}"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DDBCE966-4726-40ED-A963-4ADA6CEB3351}"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AE36CE2E-218D-4502-B22F-179EE431DC5B}"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A301BCE3-FF7E-4732-B015-4B2B2598C673}"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F3392BB9-B114-4BF7-898F-657C154347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F27E572-2E3C-41AA-8B30-FEA34DE33330}"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5C241DD0-BE7B-447D-95AF-FF04CEAE8AAA}"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2C534C1-A8B6-4310-BB6E-517A14777FA7}"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8E67DE8-4CDB-4859-BC91-37E17001374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9CBB183-6CDC-4276-B537-E0401B52E19A}"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8C2638EE-FF2B-4203-A14B-81F576FBA6A4}"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32B2CE0A-FEFC-4C87-9604-4F1F5A8C5F2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CF2CCBA5-4375-4905-8041-5B4F77E32480}"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B84F8699-F764-40DC-8A2C-DB4372DDAAA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DD9CBBF2-7CB5-4CD3-A34B-F95446E28B8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A5990B46-58F5-4551-BF78-E22BE26D35E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FF96344-BE8C-4B20-ABB8-D790ED74D5AB}"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F54B3C7B-0264-4D38-9E9E-BC23D1E36DCF}"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E2F61150-50F7-4467-A7B4-2177AC4F8677}"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62D31C9C-440B-48B1-ADAE-AE56D476CBA1}"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6824666-B3BB-415F-8E4C-54E47D66BE21}"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974E71CF-8A28-4B89-8549-31999EBBE9D5}"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53780D02-A09A-45AA-B7F6-EDF04FBD412C}"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806EF495-A448-4C5D-B671-CFCF9B7A554E}"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DC140063-6BDA-4F65-84A6-4AF0B9EE2B6C}"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BAA36302-D130-41E8-93FF-0D41D5858CE3}"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A05145BB-7D0D-433C-BDB5-E73D84AEDA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ECBC98C-47C3-4CB5-9B6E-FAC0D01B08DD}"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59EBDF27-E84F-44BB-AFE5-13AA064FA1FE}"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B31BE4BD-697C-4BA3-92CF-CA20BC4033A8}"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EB3AD19-7EB3-459C-B892-AEC903FFFAC2}"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6102CADE-00EF-44C4-93FF-32596FAA8C39}"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2516D8A9-0AE1-41F6-BA0B-CDC5BDC6C57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778A6497-4AB1-4BB3-8E10-DFC097CCF3F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FEB2448A-3DDF-49FA-9765-10A182661852}"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7CF757C-E24F-4174-9B40-B79C3D6FFDCE}"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625199E9-F7BB-44F0-8CA0-1D781A42B1B0}"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69B0E9B9-121F-4F7A-82E7-6D4BD6276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B818952-823E-4757-ACE1-F8C0AA1D4F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07EFB11-6C19-4F35-9FB2-2C281D3887D9}"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32CCD652-C544-4FA4-8E2D-DA805265CFCA}"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279768F5-A51A-4042-83A6-39E81C2DB1B1}"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18EC1F90-007B-407A-AA29-80AB06038AE1}"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40D49FAE-5D62-4537-9CF8-8906F70FD09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35D631FD-4BC3-4A61-853C-871867238F81}"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35025DFA-2DBA-4314-B8BC-DD31A9EACC93}"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F9A03B2B-1C7D-476B-A12D-0270730C4248}"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BAECA9B-7792-4B25-B0B1-8DFC65E4EA74}"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66DDD04-CA8D-4030-9C4C-F13C1C2F706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AA90B53-61FA-41F3-9258-11405ABC33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BCC8E4C-679E-4860-AAE0-D61E186E9B72}"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DC750DCF-FC93-4A3E-8497-744ACBACD4F8}"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3DCF98B6-97D6-48DF-865F-42E3038825C3}"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4FDD75C5-B51A-412E-8CCC-8CE27F531974}"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D87DC62C-1F14-4984-88F0-E5DBBA1C15E3}"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D73FCB11-5615-41DA-82E4-D667B40ECD0B}"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8F9738FD-5457-45B4-98AF-F692F962A710}"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683FD20A-FFFC-4F2B-83EE-3563A0DF0A23}"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C68FAF8A-0F8D-4CE1-A369-4EF83C59BF8D}"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B5034B46-7299-4F2B-AB03-C06120C4EB98}"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78725E4C-DAA0-4E74-80A1-12667D877B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5CC65F7-B850-47AD-B289-CD9E64DDFFDC}"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06460DF-CBCE-437E-9999-BB38600DF4E6}"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3A0C0C63-142C-4944-BE90-63EC4BEA2ACB}"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D52C06F6-00CB-4FD3-980E-D06D34F263F7}"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E25547E6-DA18-403E-A5C5-A6EB834A864D}"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B71BCA60-8591-4583-9E32-A720BBB08FA6}"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0C8B2E36-9AA5-4E9E-9F73-4B4F212FAB0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6924ABD-7D23-4999-A250-90D0F9DB10C0}"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437DE1CA-DC31-4B40-BC9E-09AA2E10BEA0}"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DF872D9-3618-45E5-B002-3985D78A9774}"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AEB6A912-0291-4272-B08F-636618FCE97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DC9C050-8933-4802-94C4-E105809675EF}"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B34E46A8-7DE8-403E-BCCA-38E2F626230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DDAAE93-A655-4D01-BE82-40684D64C4B6}"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47ABBAE-7D1C-4925-8AA0-98F0276B7B5B}"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230C500-FA46-473F-AEA8-EBA84A21B41B}"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AD9D3C5-5165-48F1-AC89-E8F01A51B44A}"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807442CF-665F-47E1-8CED-99341C0650C7}"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0FC8814D-AB83-4336-B66C-1DD33FE20329}"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9C62D31A-8D6B-4277-A1A0-0644BCAB7E86}"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8CF673B-3CBC-426A-B64F-65A2F7D1F478}"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DE019D22-19C0-4BAC-8A51-AC3AFB073D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83A7A11-D63C-4CBA-A04A-8629DA1934AD}"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8A2905DB-FC78-4E2D-8299-6B1BE46F19C6}"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BFF392B5-F67A-4938-ACCF-EF7B20E622E3}"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396684D4-652A-4525-B882-DCC2ECDE5507}"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D8639D64-9F84-4102-975B-324FE18147DF}"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F723F3F-F757-406A-9D73-753F667A9E3F}"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92BA1070-62FF-4C7E-9017-51E3118F232F}"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38FEBDB2-FA08-4874-96BC-1DA95C3C3F02}"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71766F1E-0C28-4A36-AC4D-80A8A011E627}"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9A4DF303-B153-4D1F-82B9-C8B4F4E9A237}"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2A11BC51-EBE7-428A-9A72-89F78B72E6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15783A55-60E1-4175-A57C-BDDDBD4D39B1}"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62AFAFDC-2587-4A2D-8BC5-DDE4D5FAAF87}"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D229B26-154E-4EAD-AC15-4DFC4398808E}"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D88CD66E-407F-4C71-BA05-2FB47F9AE017}"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749D70C5-275C-408F-A7A1-A04B7E85F154}"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A6211732-7B5C-4E03-8374-7146BE9F5A08}"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8C308CAE-DC4F-423E-98B8-7AEAEDE16AF6}"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BF62E8DC-E241-4FAD-8E38-69C59DB0E4E7}"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B2F0F15A-F343-4919-85BD-012D23666909}"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04CDFA09-6694-4848-B4D3-992B80D26F86}"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2C4A703E-5779-454F-BA5E-15BC56C61C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F1C50F0-05EF-4E4D-B5F6-04AFC3952B06}"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D4346818-EA5D-49C7-BF4C-6998504F64E3}"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E0574D63-C4FD-4D2D-96CF-983D6F3238A0}"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77451E8-6A16-4848-B79E-57842CA08976}"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2D6B19FF-6A7D-4482-80E9-CF3EC0A2B2B2}"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CDC683F-7D10-498D-8761-945A22225B48}"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87EAD1B1-8CC9-4552-BCA8-2E8D8E8514A8}"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C0779AA9-28A6-4910-B05A-EB76A130C4E1}"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136B4784-985D-4BE4-8EFB-66C4C09FBD98}"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AD40FC04-A583-46A6-95E4-50ACF8964B03}"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38881D3E-F047-466E-BC32-B7FD1008B8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7DD1417-A5F5-4B3F-B4CD-9775A88D1C5F}"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03ECCA4-E9B7-4187-A979-1C9FE5B6A22C}"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DEC6F832-5655-427B-8892-AFA1E7987FB9}"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2AA7EE38-E256-44AC-BFED-A4FF513C3EFA}"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CD34F7AF-EA01-4295-A5EE-33217BD86356}"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2362B17B-3C19-48A9-9A73-D5A6685E2E71}"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9EE1058C-B420-40A3-B072-CA0F9DF51990}"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EE502896-C0C0-43C0-8A5D-0E12E793B72C}"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0D5B89DD-997C-4948-B601-CF973A3726F5}"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48ED6F75-2641-4C7A-9101-EEFF4E9BD386}"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E428013-1C3C-41F4-8F90-F1A044A5A9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FA69E24-0CEC-49C6-BA9D-E3D419250C45}"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A85541D0-D15D-4BA0-B323-3058DA5C7293}"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88B30A8-083E-47C8-8F41-24ECA62B93D5}"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A005C605-70E0-4EE9-9CFE-8E691DCF4B53}"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BD75F094-E302-4787-87A7-0CBDB34E96E2}"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394354D0-DD7E-4F99-BBA4-571282F667B1}"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DCCF15E8-1415-4681-9B6F-40C39AE9B82A}"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3A3389E-FE60-4CF5-8435-0CC27A25F1B0}"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4AF4B32B-F185-4197-9276-332A223A8EDF}"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B4D9D3D1-11D1-4FC2-983E-E6D70AA27199}"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FBD7A5E0-8B62-464A-94A1-8C74162306F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952A7AE-5DBA-4DFF-8DEB-01C0236E5E35}"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24222A4F-59A9-43A5-8813-CA7E5A6730FE}"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B57A986D-070C-48B7-A72C-13D9F23C1FD6}"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C307C4E2-A1EB-454D-B901-44F6AAD0768F}"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D3991502-ABE2-4354-8942-1F8F6A580BD6}"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BD1CF830-1E8E-408F-9238-80D0D33A3456}"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E74BD3D1-1FFE-4524-AE04-B2B70C074370}"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80701A84-6649-49F7-BF99-BA16F12C025A}"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D96BEB79-79B8-4D91-8151-A35715071671}"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2F1E15F-CBE1-43DE-8E67-C005B6C69B99}"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609846BD-3F45-4071-B7F5-8E1FB06A5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269AFF-75B1-4F2D-92DF-766CF00A7E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4772696-22A0-437F-A175-2DCE2C4717E9}"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F83CC8E5-5E58-48F6-A957-5D4EE0C49604}"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DD7199F4-09A0-43C8-94C2-238D9D8CE651}"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34BDD83C-8A61-4BE3-AAF9-0E5335CDD54F}"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F7DACBE3-D011-41E8-8B95-53DC335421E2}"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B51293EB-C182-4EF1-B929-6C4F0DB3E25A}"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DCF355BF-9D1F-4F01-A734-31713DA6BBE2}"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C29C2F32-BFD3-4606-81B6-6D83F2FF18D0}"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6D02290E-F63D-4EF0-9FCD-27DA9A44225F}"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35EB36EA-E1F2-4D3F-8753-5B655CEB105A}"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DAE1C89D-0459-4431-B4B4-1CD3035E5E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6693787-7675-4990-89F7-E5366A7CA69E}"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6564B210-A4E7-4CF9-A2C1-CF5FF3BFA2A9}"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0539F5FE-77EC-4B65-9E3A-0759B7E6642B}"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9433952-90EF-4FDB-825A-8F6A639C7BBC}"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9807EC8F-F134-44FA-8BA2-668BAFEC659F}"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0A5E8425-F735-41A9-B0AA-1F7B3E6897DE}"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8DE15B6-74E2-4352-BF55-ABAE151015F6}"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5E90117-ABD0-4B51-9420-E0E6DEC40BFB}"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BEE7EE27-713D-45A4-96EF-C8FEB8BCE33F}"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5BB4FAB-5FD2-47F7-A7E4-97AFC5BBB0D4}"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5D6E76E8-F535-4D22-A880-1B024A604C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3106343-0580-467A-8AFD-4EE0C665E102}"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4CA232E9-D775-45FD-9E5F-C7672BD14D86}"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9B58274-898D-46A5-A4F2-C56EE8EFA7C8}"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686CAFA2-3269-4B68-A153-FA28BAED636F}"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30CB6C6C-3D58-4EBE-A00A-274499EBB95B}"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30EAC93E-A0BE-479F-9F3F-7F0DFD07FE05}"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5A8D151C-7942-4E9F-A4DC-73A20FACE47E}"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F127319-486B-4B23-8181-6385F0415A7B}"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219E845-364E-4009-9C68-FC176FC8501D}"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6F48F396-75BB-47E2-9AF0-04FED6E0D822}"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B931AA0-1916-4A71-82F9-C8B5037632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6B3A4D-642C-47DC-84AE-3A2532764319}"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DABC805-1788-47BC-8C9A-09D360BE49C8}"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E088325E-64F7-4347-A7D1-D13D2D49BB8A}"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3F429761-8CBE-4351-B015-B4275767FE48}"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262E5BDF-7C5C-4BD3-8894-B6681123647D}"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CFE699DB-C1FD-468D-9C65-4EC097120830}"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05611AD3-27A5-4BCB-9A1B-5783490635E1}"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5FCE8A7E-5769-48E8-BB47-8EE76012306C}"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C78C284D-BA75-4535-95CE-2864A1CBAA60}"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3E6D03E7-207E-4370-974E-86DD99FC3E7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347DC62D-A294-4A4C-A8C3-F2A7EB3014D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E434BE6-7484-427D-B37C-349C6EB7FFAF}"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4BD8CCC-881F-4A5F-AFE1-F3B9D164D02C}"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3EF159D-256A-43FC-BA0C-07B925C9CB9A}"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A9148758-A3B8-46C1-8BFD-E13C7E1427A1}"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F6813653-59F3-46C5-A606-4F98E85F6AA6}"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3F8F0942-5219-446F-A74E-05636AF3DE01}"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C1BA8C25-CB2B-4FAE-B8A8-3021AEC1FF3C}"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E93B9FB8-63F2-4FB6-9C31-56E56326ECC9}"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C8566069-FFFB-4E35-80ED-6F1F629A985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7609E5C9-AF88-47A6-9036-AF91795D933C}"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51E41B6C-500B-4D16-90CF-8764A07943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CA87AFD-BB2B-421B-859F-8722ED5A0AAA}"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4193FDEE-1E3D-4A25-BF53-18F2A1CA1B7B}"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C0A7418-9DE8-4B02-9EF7-0F9ABD6DDE8D}"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40AE910C-83F1-47BA-8E5F-D913EEB0B0D5}"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D7B5AEE0-8D36-4D51-A9B1-CC7A428D4C99}"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29FB6A5-C683-4E70-8DD5-FDF801EE6546}"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A0712E63-E87C-40B4-B75C-D5061E67FF90}"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911C8B56-4CD6-4700-B1B5-FB61E4A0F6A2}"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20D009C7-0359-4A65-B8B4-5A3C870B2B55}"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7D8CF005-659C-43B9-ABB1-C32FD5E100EA}"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19FDEA07-E241-4676-AB2F-6D706DC720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ADACE23-9B85-402D-BA1F-B998B4DA87E0}"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7F5EF0E-D980-451B-B71D-3CBDC9359AB0}"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3D6A6F1D-4B44-470C-875E-51F31D441F9A}"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CD10E7AC-30E1-462C-BB93-7C5C3B95A078}"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9D2E9800-F47F-4BD8-9431-F82072B86A03}"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30C98697-F143-4FE7-AC0E-DADC1DFAA535}"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44978DD-EE23-4824-8E46-EAED761BB96E}"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DC9EFEF1-0314-4B9B-B14F-3597CFFDC352}"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2C4B3D49-BB30-4ACF-9442-0111556C6FF7}"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BF1D7577-1038-44D5-A920-6F31DF3732DF}"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7DBF6CC9-743C-4CBB-BC73-2FEBC17C704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3A8672C-0519-4648-8E6A-1B8E01700BB4}"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FF8D3A35-DEC0-4C22-974A-9DBD5BE5D9D5}"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74A34ED-DC07-4C4C-B2B0-2ABC04F1F11A}"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A51AC5B-65CD-4776-A056-ED8D325633D7}"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DCB15FEE-52EF-4AFA-B0A5-6A5E5E1CF26B}"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99C6C5DF-9146-4891-AA9E-BFF3FDF8C3DF}"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C324A3FD-8C31-4BD5-B592-EEEE1B766469}"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14F64A51-5F82-479F-BB9B-86CBD6A99DC8}"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65944BD-5E2F-4D34-B2D5-7192970325A4}"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8102E8E-ECE5-4AC3-953D-560E35F998BF}"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B463C706-C339-4080-9E8F-2B6DE74EF0B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6CB3380-ADB5-43F1-A885-9D577B2FCC3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E9DA8D86-09E6-4785-BCBD-30F01EC95CC2}"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6C3A5845-CF5F-4FBD-AFBA-FF55DFBF68E1}"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478BAE86-D5BC-4EC7-BF46-CBA7FE3919F9}"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324B3DA-9773-4AD3-A50D-F4CCD71E778F}"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14E0CAC8-E836-431A-B180-C990CE09C99E}"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F93C5F39-BA8D-4E64-A1C3-2BEA4EB92FFB}"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93089887-6DF2-467F-910C-927F44BBBD2F}"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7BF5E987-7BEB-4E39-B087-97FC2D6A493C}"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6B27798-9969-4642-8117-A3A2006619C3}"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1EC539FE-E6AD-4B05-B358-1F2AC19B2CA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E1470A1-C204-441C-AF37-47D140C0685D}"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92B32E62-F7B0-4DAE-A48C-5E58215360E6}"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D24C70BE-D933-4804-83F2-020F21B1754D}"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13781357-3E92-4436-90C9-19BFA49BF476}"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B7347F5F-D903-4CAE-B704-87825A5D0BC7}"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DBD3570-4A79-4EC5-A924-C8467EC72620}"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518F928F-865C-4A64-B178-3BB1800F2F36}"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FC09688D-BD13-4AB5-9498-CBDB9BFD58E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33FC0A71-A2A0-478D-BE2D-DED419EF0B49}"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6245DDA5-0BF5-47A1-B3C3-45F33A0927D6}"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CCE12DEF-6EF4-4E86-928F-DA0F2E65E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8B3ED2-1423-4DC0-AF1B-F7F7779C1A5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C26DE6D-9966-4F17-A1A6-3500514D122F}"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B63023AC-43A3-4E35-B104-958854C4C78E}"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B80BD149-DAEA-4A69-B063-1BE0D0C1BEDA}"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FF6662C-EB55-4234-81F6-A0F23C88B3EF}"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E777B2E5-8188-4414-BDD2-B80364E6A97B}"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A5F4D3F2-69C6-4032-A93A-4006F47B752B}"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8BB778FB-AD4B-4C77-BAB4-E4558356DA80}"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41A34835-3429-4B03-8416-091A8E47B30C}"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BC4BDA05-7FE5-4135-B1EF-938B8FED8A6C}"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7F846757-4351-40B9-A66A-C6091F7DB7B3}"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31A8C4BA-04EF-4EB3-A6E0-3D5A3EA351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050A1B4-93CE-4630-826F-90D4006A66DA}"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31551C0E-04B1-4661-A233-EB885D7C1530}"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D62EDCA0-B3E9-4A43-8B3C-86F6C53775EF}"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3AA3668-38C6-4EC1-BD66-E6B2A8C8CF92}"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71247954-531F-4187-969E-AF775A044F40}"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A9AB0659-87E2-4AF4-B978-9169D3B7D3E6}"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1E66E233-5DA8-473D-AC45-E8820F5ECABB}"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156712B4-38D3-490D-B9EF-259F46B477E8}"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62B207CE-7AA0-4276-A473-52360D7F5E70}"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F4F0EB9E-A68C-4876-AAC1-5F4F69A4D412}"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7830FA5E-2614-465B-8EA8-9BA3A0824F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CAD7DD1-3EEA-45A2-B748-D4637B273EA9}"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D92B7DF0-F2F7-4D40-B622-F751858C82E5}"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927AD667-159B-479D-B584-4C49E352E924}"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7363DB8E-8FBA-4E26-85C1-2B2C3652ABD1}"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CC2E798F-B622-4FE1-8AA9-032019ACF13F}"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AFC4D052-5FDA-43A7-904B-A47C90CF52D8}"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BE36BC8D-7525-4C2A-8411-9500F615B70C}"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287AA428-7485-44DA-BFC8-7B2C62EA80E4}"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2040AA7D-602A-4134-BCC0-587660C9A285}"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8FD4273F-6682-40D7-BFC4-BECF6930330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A36FAFD7-D641-422E-85BF-69508AB8E2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CB3934F-B40A-49A6-BED2-6F1D39703C8D}"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0A12824-BAF0-4122-AC2D-C78EAC5F2CE2}"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6F1E9662-FDD4-41C9-B5D0-EA6C905918B3}"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2867AE67-E585-42ED-83E1-DC41A871B81E}"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86D27A5E-38B9-4F34-9CDD-533506C936F4}"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C343BD2A-64CB-4FF1-B99B-80A9A652E3A0}"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4F03E1AE-0A9E-462B-B178-6C02E93A000F}"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0CE8314-3B34-4CF3-B9D4-CF0D1AF72AB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C610BE9-FEC3-4CD0-A3D5-3F0C4A7F6BA2}"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B59493B6-B354-441A-BBC1-8ED8DD7F64CA}"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854FBA12-EDC8-440B-8351-632BB7C71F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E4F550E-1352-4FF5-986D-F853BCF43BC9}"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280B6550-4293-4F3E-8D73-6FD5D2892209}"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30093BE7-EE4F-455C-9AD5-13A9A6759798}"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376E52F3-FB48-4954-B9F3-3211179718A2}"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9BEA0A2B-3C3C-4889-9BF6-AE0425DA6D13}"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82A2453D-9CA9-4DA8-8D00-E986E2FDA86B}"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09766840-DFC6-482E-BE4F-F8A155FE1199}"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28B68594-991E-44DB-ABF6-B37132380E59}"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E77324F-EAAC-4DDA-9B75-A6350CC1DEF6}"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6E3EA43-DB08-4BC1-9540-9A26E11387F4}"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E8711E4D-2C66-4FF1-8DFF-DBD3C1F1C0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1F12F3B-7949-494B-A7BB-FED60793ED7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63EBDD5-68FB-497F-88D6-EC0F6005F28A}"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71134616-E4E1-4C34-816F-80FB0C161095}"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2C147B13-1E78-422D-90AD-46E59E117CF2}"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80690C1A-5C84-40DB-88AE-4A10D60174F7}"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A50309DA-F032-4FE2-8777-9218E9CEC1D0}"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0B42F66C-2E93-47F3-B656-EA300413073B}"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E4B606A2-7DF9-4745-A7E1-BBEC0D0333E9}"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37CFD11C-1058-4472-A403-AA7A5B7BA910}"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42AF683F-A47B-4D8F-A5BE-30D67935B2F9}"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C9865B80-C3A5-4541-BD44-60DFB642646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E58C441-EFD9-41A5-8941-967E8FF68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25F58A33-B0AD-4010-9C2B-4BD6451E54DB}"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060B2897-85A8-4A9D-9B84-F7360F9E850C}"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27968410-BEAD-4A53-A340-28229A6A2C3E}"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98CE4CB4-ECD9-4F5F-9C94-E82ACE713A6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3AE442F8-1A68-4ECA-AFBC-C9833EAB62AB}"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2806368D-5B32-44E6-AD7D-9DF12542E8E4}"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5771189E-2859-4E88-BD43-CCDB885773C2}"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04EA3A21-4B27-414A-8DDE-24EEE946691D}"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D3174B1A-2584-427B-A888-12FFE481E4DB}"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7C3142B2-E4DE-498C-A4C8-63BFEDA98EC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C0D641D-2672-424E-97ED-40D7C989C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84B44C6C-4932-4485-BD6F-CBA9486C4FE1}"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1BE39DD-5D09-4F26-A782-1677E622C1BF}"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AA32624-97A0-4CF3-856E-ACD75F2358B7}"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385E1F64-D3C6-448D-B148-9ED1E942792B}"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71F0FCCE-1607-4599-AB53-6D5B51F12179}"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5BD37EB6-5FC5-4BD8-B20A-5015F7A0E7CB}"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CB92C762-C1C7-4822-8B7F-05DD55B6D3A4}"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E54E3356-DD29-4A8D-8A65-05E4178C21F8}"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26F1645-337E-45A2-AAE8-E8A347F4F26C}"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BE95A4E1-725C-466B-B5A0-2FE1DAA2C06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8D7DEB1-8EA5-4412-9BB5-9BB3C7503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4800020-8C06-45EA-9CCC-FB4697BE79B4}"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1895480F-D504-4724-B94F-F3BFB19859F9}"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FE51EB91-0903-400C-B01F-3E4614AAD7C5}"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DD671DA-78A9-4140-8CD4-7C19DB641419}"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6016E6AF-1684-404A-9278-61C5A0F0F87E}"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12F36E3-B08A-4084-A7EE-4F7962873D00}"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02820C25-A8B7-4999-B859-684922EC0B35}"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612F273A-6CC7-4CDA-AAAC-1EC3DCC883C6}"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B4C209B6-5149-4DDD-992C-E3FF9EEBF5E1}"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029077EA-AFC9-4A7C-8B3A-2A11B82D9FD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CBF1F73-B801-4EE3-AAB2-71A4B1635B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15400CF3-0BEE-4AF4-B057-B44E77DD0292}"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4EBB259-FF30-4D49-97F1-295117E056EB}"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2D3E3A22-08D1-426E-B40B-DC259D688389}"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7E672CF6-C6B9-4500-8AD3-2878BF4E7AC7}"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F0DEDB1F-922C-4D97-BF0D-BC4EAB509B77}"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AD6939A-8B67-4E9D-BE41-F761216FE497}"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EA022E02-88B9-4A48-BDC0-495FA1CA4A36}"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E69205AB-B9E8-4D0F-8B22-86C08CA7C2D9}"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5F1FCB5-0560-443F-9121-70852AE70215}"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B05A19C0-34BB-4177-8FD3-24C933F009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DC8AE4-DA20-45D2-B858-402F455259F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2F600A0-3B77-4AD2-A0CF-F4187D131B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F79ADF81-5854-4056-92DB-675B27EBD470}"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006F5034-3B60-4D97-AC9A-4B1796389B13}"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34B23C6D-B199-4461-9F60-880F95D262E6}"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8739545A-1661-418F-9749-6CE6EEADF3F2}"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0F2C351B-C1C5-4F03-8774-86F306A8F2AE}"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3E46F790-4B6D-45ED-B153-0446FE5FDF34}"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14E43DDC-E959-4F04-BCE6-508AF0308032}"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138233D2-9531-4E33-939A-F50FCC1AB8B9}"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B718FEB-6792-4AC0-9D73-7E0FF1530F5E}"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BBC52D51-9592-4787-89CF-86F591A77DF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ADA4C9B-5E63-448D-955A-A074A8AE16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6033FABC-3983-4EF3-87A1-5197BBC3C9EC}"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D84208AA-39E4-4C1B-AAD6-AECD8B22C95D}"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B3B6BFC4-4391-47BD-86EE-7AB9EEB58F45}"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729227A4-5CB4-47F8-877F-BF5B31A0C2C6}"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DF37705-0427-4F25-9FF7-25986AE2CC4B}"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197462AB-9B23-488A-958E-38ECEE5DA9FA}"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F15BE668-BF71-4759-BB46-72A045D161E8}"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D92EAADA-C8EF-4A1B-8FC5-8515E63E2AC8}"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DF7A399D-805D-4FCE-B2BF-8274518187AA}"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0359AFE-44D0-4AAF-9A2B-CAB049F4BC3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4A4C296-BF05-495D-9512-DD6DBA3F9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21B2B7EA-3452-4599-94AE-3F370A0702F8}"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A559D87-E90C-4D5D-8C1D-02C9554B85E7}"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2D660397-C891-43F2-9B8D-831836B0A0F2}"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8751A339-589E-416E-B672-652B9B777A48}"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96EE80EF-72F1-4626-9000-1984979EC899}"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E6E1255A-AF82-4E04-8FBD-1C0A60C73800}"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5802BB1B-370C-45CB-A284-9AFBA021D2EA}"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9147FE11-C7C6-420F-A0D0-CA614533B32F}"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2515086-08D9-49B9-AB74-88394284AC05}"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A0AEED19-BAAB-4145-AE0C-9D968EAB577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51A7F1B-8F8B-4210-8F79-18DDC6BB1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9CAF90B1-39AE-43B4-A40B-6AE6D4CE27B6}"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35E951EE-B752-4A06-B74A-AC70B458117E}"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D74904B1-5FFB-476C-AF30-8F2327A6B3E5}"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094F05F-BDA9-4272-B194-A314CC6F38ED}"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37C3C835-5D07-4394-BAC3-E61397BDB3F8}"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4891333C-B3EC-4D1F-86DB-497CF5E01898}"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DB5DA5F7-3407-4266-8BC1-D20D0BB76F73}"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D79D32CC-B00C-476C-9636-189D53087EFC}"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9C867C0-495C-49D7-850C-FBD881447A99}"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D426F74C-427E-4DEE-89FC-222358C314A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A29A433-7600-4970-AB97-8415FE396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16BA6E17-AA5A-447D-AC44-FC0ECEAA6BFB}"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64CA88C4-1BFF-42FE-9A72-A99319704723}"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6E033F5D-5BC2-4432-A9F0-C1DD134B5C11}"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02101E3C-8BE6-4B8A-9F81-08E0D73C55DC}"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074029CE-85E3-464A-BA14-3B135C24DEDF}"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9AE4C0F8-C35A-4E8B-A1CB-DA4A238DE216}"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E7DFAD86-81F0-4D87-8D3E-0039129A40E7}"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972BBB24-6122-4BC9-A5F8-E5247F78B543}"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37049B2F-8623-4ED4-9F14-DB26343F110C}"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A7BB417E-F707-450E-B58E-5A28985A36B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57DE632-91C3-4A7B-8CE0-DF2FAB4E5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F011CAA-F47C-4F22-BC21-10F3AAEED8C7}"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A56D9297-6681-4A6F-A6DD-CA7B855A694D}"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2CFACABE-BCD4-44FF-A645-255D241FEB02}"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FE12FBAE-8BC8-440E-8F70-967AC26F4E36}"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D79D5C01-CEEC-4D19-8C0C-622A6C68D30C}"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EF1AF907-3E40-4030-8F2A-4C2BA103F9E8}"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102CD6B7-07E6-400D-B6A8-64F57281B4DE}"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3A9A0F87-8B1C-4F4C-A112-BE971E2121E1}"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1C3BE485-BA94-4872-9510-EF41028F654F}"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61CCF77F-2277-4841-9DCA-469571A90ED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FF58222-4912-4A64-8C2F-8AE3C6DC4E8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DD3E5C91-8D1D-45C8-9E4C-693BAF712BA1}"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8EF1B60D-9C11-4627-982C-BB890F11DB74}"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DB3DC8F5-599A-4DEC-8B53-38FF1D90C5F9}"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1976F858-6F68-41BF-829A-0A84D3551F43}"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B5FAD673-5EFC-4571-8787-48A27331A3D3}"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4DDAE05F-BD1C-4E35-8107-1A44D132D9F1}"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68AE8BF7-3214-4627-B39E-0F197BC2D57E}"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E8A5551-201A-40B7-8F45-ABC6EB5D3147}"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BAEF6D4-D866-4C30-8A08-98CACF9D9391}"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77BA1AB-1923-4F11-A5FB-ACA6ABACDA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8438FC4-C2E9-481B-BB2B-54FA0BCC044C}"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000362E5-A94D-4458-8C51-25CCAD18F516}"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1B246E92-034E-4EC2-87A4-202F1B3C5957}"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60706732-6A11-4B7F-ADC4-D7CA79BA4619}"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A6EB6B06-515B-4E12-A24B-BF037ECAD8B0}"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50548802-BD0B-4715-8027-4DEE5A9172E6}"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43CE0E2-737D-4089-9F08-E3ABF2D9A40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91523706-43D3-4884-A87E-B5FD9E03C240}"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FB6A6675-E70B-4909-90DA-CB23492C755F}"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2B8C5022-DB62-43E9-B885-442D05C14466}"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18686DE8-79EA-427B-B693-6CF515369B7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461300F-FC4A-40BA-8ACB-0860A64A0ACA}"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6FD6D7C1-8A67-4CDC-B27F-F65232EE2E4A}"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9EC2704-244A-4C0C-8C15-1220ED1F677C}"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B2337BF2-6AC1-4B9C-BF4D-0A07F5217962}"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29FEF8F8-C549-4918-8457-9DA7CF81BAD4}"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24C1CE1E-3B99-4A3C-BEA7-C3490AA04607}"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D4C1C8E9-3BDA-4AF8-A990-70A259924EED}"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D3F602FA-3939-4A46-B036-B7922F0051A9}"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5858E19-4153-43BB-B594-327DC440225E}"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2E062D17-97C3-4926-AA38-207BB4168523}"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2DD68E28-6742-443F-9F70-2F88D5A253B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1B77C2DF-FD09-434F-A9F3-931AD056D58A}"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D1C75B21-D725-47BD-AB8D-BC49B28330EA}"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F41683D-2793-4A9F-BC1A-4BC78FDD9FEA}"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352D98E-895D-49A0-B696-692128B81F3F}"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77E023A-EDB9-4ECC-80CE-A070E27E6CC1}"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50BC844-E873-4C92-A571-C635C713EFB2}"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51CE0ED1-C8B5-4A15-9700-F745B933E318}"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8DEBF8BB-EB38-4128-8D1D-FB65A9E108DF}"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44BA4E47-4C7B-4D6F-BC92-E02FC3FB011E}"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B45F2404-F454-4B5B-8995-20069D69166A}"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DC7E8AB6-F427-434F-9477-E962E1D256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11766A-BF33-43CA-8CB2-AB7080D5AE7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4233B4F3-4D00-4C10-A283-921A503D4489}"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C9BC48E7-95D5-456F-A61C-D7F8B79C4B27}"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BE0A89BD-1CB7-4DB5-9ECB-712F9D52E8B0}"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FA6143AC-CEC2-4DEF-8F67-D3CDC854ED72}"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E9E05A1-B168-48BD-B03B-F2A33B1F4FC2}"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CD576AB-B5E0-4D99-927D-781AF0F2B516}"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8587D1DE-C5AF-4841-8424-675D47FFA580}"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487CA153-BED3-4613-9340-01C5B455D1BB}"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24C24B85-A534-483B-9942-80AEE955DB16}"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D9E83486-535A-483C-8017-89ADF67BA3E2}"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F383D6CF-3ED2-4D89-8C1C-C69AA737669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94B173B6-6DE5-4317-8D69-814669F0463C}"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699960ED-CF84-4906-BA9A-C41E93D734C7}"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C55DA40-AA37-4691-A543-77969385F2C2}"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91B3182-5BC4-44F8-8DDD-088A42D7CD39}"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38F9861F-D7BA-4824-8219-88126F61F5C7}"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4019A298-7158-4D0A-B23F-622338596250}"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075A01A7-ADBD-43C0-A7EA-1C08E3754FAF}"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ACA642E-5513-4E39-8B31-56EF3AB8E773}"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7354E7BB-83BD-4F05-A8F1-9A57F7C36402}"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2E88E8EC-B591-4C02-B044-160700B5F33E}"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73ACA7C8-CFD3-4C47-A5E5-2ABC3C376CA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B48F6945-93F8-41E4-9961-CB46A782B8BF}"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7F54CF54-2628-4BB0-9E79-218D0C4DAE3B}"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4B2273D8-4ED9-4E06-B389-0D04DFDBD04D}"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74A07F1-7762-4FCD-8AF5-D72FE222F284}"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E4C24ADF-5E5A-4C57-8BA6-BA03CDF138C5}"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16991D4-24ED-4F15-A56B-CC2699EE915E}"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360CCC00-EB88-45B7-A452-5B1FDF8D959B}"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ED3F8E16-E4ED-44E9-B77C-CBBBB8D4A453}"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4172F10-2C01-46AD-9D13-31A563797224}"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917ECCA-9AF3-49D8-890E-EDF0E55EE4E0}"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90C47004-3610-42EC-8C71-9CBC2F78680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7CB7F7C-BD5C-414A-B57D-E90AE0A8FE63}"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71EDF6D7-9DC7-4351-9D0B-73E30B5AB9FA}"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501B48DB-2FFD-47B3-A5D9-D1A90943AC8F}"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C1131E4C-896A-4C1A-95C9-B3B83FE78BEC}"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2E5046F4-BD7C-49F9-94D0-0F26D8FB0025}"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95ED4FA8-7891-4134-B432-75A621C692E1}"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B1285061-909A-4618-852F-4FC1F92F0F9D}"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41B4CFA9-BB27-4F2B-83A1-05E2B3ADDAED}"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6BB3C7F1-90BD-4D8C-B461-D17C7B3CD760}"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FDD6CAF8-346D-4C58-AAD6-36BE678E9A95}"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68AE7ECA-CD40-4C87-8C8C-30C169840D1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314722A-2919-4055-B19A-B01B284A8435}"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5A6139B-9413-41DB-B594-47A2240D4760}"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80FCDFB3-B326-4823-9951-457293A9248B}"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15BBDDFA-CB51-4042-AED8-4CC8BE6BCF81}"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4CF31D8A-42AF-410F-B229-08609D629BF2}"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2013561C-1BA9-44C1-8B4B-16BC5195CE6B}"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F475E4CC-B511-4FB7-913E-A2AE5271CC86}"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7FDE1CF8-1019-4408-85CB-0E6C3E5F4C22}"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FA71A5F6-7488-48E3-8AD6-069C92D42B9F}"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F7769AAE-4037-4A58-B991-D906B53A7C4B}"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2C6829C6-A9BC-40A5-B1C4-076E06AEBD7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0639FEBD-C7D5-4B01-82AB-244B82EE7CBC}"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3C1ABAB4-6301-4203-92BC-0B14CAA3F3DD}"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4ED4278-2F94-4AB6-A753-6DCCA60434B4}"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9393D2F8-6070-4B98-BDE0-D02FCF5FA5F2}"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A987726-8749-494E-9F6F-CC458FEC6E01}"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2F7009E-B3D8-4300-B680-CEC3BCB7D9B3}"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FB0D6530-A7E7-4F57-BDEE-546F2E3AF2E3}"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DE878E72-71FD-436A-BD2E-97C639019831}"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77EA912B-A06A-4B3A-8066-8A68D634ADF6}"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109D29B7-E12E-4430-A6CF-1EEA00302614}"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E538D3AD-1205-4733-8872-E992AB97587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92B43AC-167A-45AD-96F7-81DEE9581CDF}"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EFB32C63-F87D-4526-B194-A324A927659E}"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349B304F-34AD-4E9D-9ADE-4AE83B7275B8}"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0AD5FA82-7C3B-4766-872C-7BEE5D1DE7D9}"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4F09BDE0-63E4-4918-86D2-3F6B22B91F1C}"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3425C29-2EA2-4056-B7D8-8915109181E8}"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C345571A-5B12-4DD1-B440-30C95A610DF2}"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68D0C963-5638-4751-A9EE-27CBF3B3DC08}"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93F07153-D15E-45CA-ADC3-63E7C260A929}"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DA7114CB-EFB8-4422-A064-EF892A35240E}"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AECD47B4-7F5E-4E5E-99A5-392FA1FC147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A585EBFE-5FF8-4627-BC21-85DB97682408}"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BB154461-61FC-40D4-8041-4DBE14C3C1B2}"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59939B0-1F24-484D-BC7A-3A7A0C313A52}"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4D6D7728-5FF5-4BC0-B872-F040D468D550}"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F5FD4CCB-038E-4370-B766-26CCF5C93FD9}"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5CF1D9C1-C388-47CA-8A91-6276559271E9}"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AE4F1CB8-7228-4550-930F-3BF8A135C544}"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956CC84-F564-45AE-BAE8-4F905C4A3E50}"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CBE0A77-F20F-4532-BE6E-22A6CB6957F1}"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9C420B1-20CD-430D-B280-2594998B0756}"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F81A3994-ED72-4AC1-AE8C-8633FE1AE89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9043AB19-3665-42CE-B209-876C03AFEBFF}"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8AE1A239-289F-40F7-8841-D35F4BC6BEE6}"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026F8C2B-0CFB-4A7D-BFEF-484B2DE08DD8}"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D56CEDD5-8E98-49EA-90DB-7CD66D1FE176}"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8ED0F4C9-E0BC-4F1C-A41F-62EE29421E6A}"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18D060E3-0C3B-4478-A299-60359F28C263}"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A6E91A43-2D63-435C-A535-5FB4D5A521CF}"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44DA8970-E653-41AC-9A38-7BC6750FDB26}"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FED5CAE-4567-44F1-8F75-C1DDD294C969}"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82591CC8-F7A3-4918-8ECA-D3334B703851}"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07881BF-E3EB-4984-B4A8-D2EEDAA0FD2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618B04-04CB-4027-9FA9-24F1370AA43B}"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6B762162-04CE-4E36-9AB8-D8E0FC32E944}"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64E64F43-F815-4C6E-BA49-C92EF2245D92}"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EA8C8B33-9D86-42D9-9468-F7729290A9FD}"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95AE80EB-D20B-47B3-ACCB-FC52DDA5ACE6}"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4E34DDC-6FFB-4B8D-BBBD-11F3A5F37EC8}"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0FAEDC1-7195-4D8B-8BD7-4FD3EEB36475}"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D30E5FAA-0676-442C-9BCB-071C2A23B775}"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0EE9B930-9C69-4338-AD90-B5BACC024762}"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FBC5FEF6-3BCC-4E53-972B-3E3FF87D4F61}"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F0EF37A8-0DC8-451A-B0F6-2895886A1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DE821D7-B5BB-4095-AAB8-875095EEB1A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BACD8DA-87ED-4168-80E8-914D6A8198A7}"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2F9A4E79-989C-4F57-A6C4-6F3D3C6E5368}"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D36F4C4-70DF-4A5E-931B-739F8F04A948}"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C025F94E-7694-4C73-A7F3-6CAA0F92E58F}"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723F3E53-9559-44F8-AA43-4980D6977880}"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F6E66993-BAA2-4545-B3E4-CF8059AA455C}"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50CA8861-730B-424E-BE2C-EF4D5EF2003C}"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8EC25A7E-8B3B-4323-8998-28C3A77FEC3A}"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73FD30A0-0779-4C5D-839D-C12698468D0E}"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F7B144E5-2DA0-44FB-9FA7-A3FD07ADC2CF}"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165FCEC6-2103-4ACE-8182-5E8D246BE78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31623044-10AF-44A8-9E9C-8DBF9BB3A1CF}"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5E718FBB-C927-43C8-AB16-43DB3A77B096}"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53CCEBC3-C551-4AB2-B0D1-0EC39C56D133}"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D1C84308-E4D6-40EE-B79A-7C8415227999}"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0E3F66AA-33AE-4F1F-99B1-5E676EF45395}"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54909D0-CEF1-4EAF-96F3-EC3EF8AD6635}"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28F82BF0-D759-455C-B434-8E0D8FB5DFE7}"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A370E432-C5F8-4F03-8E39-A310B5AD2895}"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8BB8B1F2-9B05-4EFC-9C46-B432E883FFFC}"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624325D4-12CD-40C9-A88B-5D7D16F1ED55}"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891B549C-85F0-4CDA-A39E-2B152570C51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1EF03285-CFB9-4E8A-AC8A-E34BA6DAA7BE}"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68BB2B04-46AC-4FB3-B112-C7C67FD68CF9}"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8C541B17-A178-4837-BE2E-5AADE8BCC4B6}"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54378E98-D2BE-4900-BC1B-8AE03EF70F3D}"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7DA50D4-240D-4305-8448-464D70A3D169}"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707F9199-313D-403F-87C3-99580C59DB93}"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F595534E-DEFA-4B8F-908E-7E5CDB0A16D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1834A21-B6AC-4F53-9C28-BD15E8644ACF}"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EFC986BE-7FA9-413C-AA62-3FFCF434EECC}"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5C510E93-D8B0-4BEB-874B-CCC774D28666}"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7ABE0BBC-0129-4709-AFF5-641B41503F0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39F7CBBD-6E5B-4CEC-A4BE-44FFEB448704}"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BAA8793C-84D0-4E65-ADB7-757761F3ECCC}"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D687E875-9FB2-4C72-BF13-0246E7B1105A}"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21DD891F-8389-4275-8D35-DD61F10414C6}"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0AE1CFC1-032F-4C58-BE74-C94B9420D57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AB7ABF93-D4C3-43FC-B6D3-18E791BAE531}"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D85AFB6D-0AE6-4273-AB0D-78AF4DF183E3}"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7756E513-3CA2-4FBC-A6B1-4ECC36C953F0}"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D4257E82-2862-42AE-9286-8D65DC438D4C}"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A9002059-7D77-4381-B978-03A10EA7C5C8}"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96905485-FEA6-48DF-928F-62F4C9392C5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BF0EE6FA-C5F0-4D00-A5EB-5D8C6C796C31}"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FBB87898-9D99-4B2F-B055-DA81558AECD9}"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D8F7513B-E1D2-4287-BB96-F68D61342737}"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CB667D8E-BBEF-4B0C-ABC8-9CADA2CD08E4}"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63902551-4112-4C27-B294-FFA3EE9FD5D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8F56F17-7F6A-4BE2-BDC1-FC9FA68BD58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751FA7B1-A791-4E71-8B5B-E1367969FD3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5E081917-8344-40D7-9E9C-F4774599A53D}"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D8DEBF0-6CBE-42B1-9FDC-24CDAF21117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6EA138E-E839-402C-94DD-3AFB3FD8A21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0448B982-33DF-4A74-B56B-FD445FED2CD9}"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9317A86-5614-40E0-93EF-3BF5BBFEF4F4}"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FD32EE78-8B96-4B0E-901C-B69F2C77018D}"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1CD0A734-28ED-4D7D-8622-9622BA9D4F5E}"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29B3FA55-D5D3-498E-A982-639608BE966D}"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DBFC43D3-D99C-4B71-AC2E-0961EE42C492}"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7EF59102-78F2-4227-A58A-052E49520BE6}"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39FCDBEA-CE05-47FA-B7E6-9A713D3CD10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A9AD33E-0C3F-42CD-9E84-77382FACF0CE}"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1CF27D19-95FB-411E-912C-E3BC5C3753EF}"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4287BBD8-9327-4661-A710-369FF9CF87C0}"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E7693A58-79C9-4E89-8B7B-480467D4E67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D35DA3FC-49AC-4B8C-87BD-4AF976177B02}"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7DD2A058-CC49-4708-A548-F900CF4023D5}"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3F33BE68-9EFA-4145-BE25-65919E1C934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54417F98-B02A-4662-9BBB-989B154558D7}"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EC8B706D-5614-40C9-96B4-BB5862094714}"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1763DE93-DA95-4B46-A5DC-F8D6EC313CF4}"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17F723C5-C486-4134-BD6C-F1850EDD6E85}"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A174A0CB-0618-48A5-9C80-FBF693AA7F90}"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F59CC182-F7D9-4ABD-9B64-A742641C416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FCAD4A99-96AC-4BE9-8402-47C37B75E20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34558B29-86EC-4988-819C-BD9CB305E0B0}"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22D0A9EE-D409-4396-97ED-59B1C9505B9D}"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9E18905B-3F09-43EE-BB2E-9D229872AA0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34BA0F2D-BD1B-4957-B0FC-4844D2E3CD2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C40EA3B-455D-4DA3-96EE-4556FBCAAAB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C2F1FEB-FBEE-4ADD-9569-91ED65594F7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2DFE17DD-2D03-4EB2-B88D-CC815188226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F8719F80-6A2D-45FE-828D-982E1B9F1CA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E6E505A7-A7C3-40AF-8DE9-D2976F881B8C}"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15C2B599-34C5-4FC4-8C5E-0C970D3606D0}"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21E1B93-0346-4A89-9F9C-281BB80C5F83}"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47E8832-B775-4140-A350-F3B08700DFCD}"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31958BC3-13A7-4D8F-B5E6-2A90D639D3D9}"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2829564E-2465-4109-9223-125B730DBE1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6C6FDF86-159C-460B-A431-22F1BC9FB81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0448D6CB-0901-4ABA-B984-770A9B4268A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CCACC2C-D608-4895-8278-E954E5F5ACC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9F94209E-DC5F-4950-B258-20A484B8201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DEEF678-D239-42DE-94DD-C54D60328F9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33F622CC-4035-4C6C-9088-3296D0A83C61}"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18866311-91B4-4BC2-BE15-E284A2E6523F}"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DB23A2CA-31CC-4A71-A852-170BAB858E7C}"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ABFA22DF-E29A-409D-9DFB-435276201EE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DB7B9A92-B2A2-4FCC-86B0-0B961CA448B7}"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6F0548A9-C278-43FC-A35A-5575C7B3CC8A}"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B8D5FCAE-E2C6-4F0C-8302-870CC4251F7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C98F25CE-4E7E-4CEA-BB9C-8C8EB9823F3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42F250E2-5864-4C29-A143-B729478D1D9B}"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F3C5244D-CA1C-4CA9-BCD5-439ECA8C648F}"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485C0A0-9E8C-4F9E-BFA3-9C151102E83B}"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51286BD-A2F7-452E-9F9E-5EF7298E840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3656012A-8A1D-49B4-97CE-EC933AF2840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FD51FA4D-3871-479C-BC74-79BDA09FE03A}"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618344E-3251-4858-BF58-438E0C24F096}"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8086948-231F-4B3E-A594-56CE6AD5A51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492B6422-2D81-425B-8BDA-CFFDF8A74C72}"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37DD7943-0020-4681-9EFB-81A086A3BA8A}"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2B43FDB3-9429-42D7-98ED-D162098FAB93}"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D39E3C39-4486-4CC1-AF96-0622AC50FB5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9693BF9D-0B74-46AE-AC6C-DBF09080B32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8828107C-EE6A-4135-83B9-DCC33633E96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54DECD04-F121-4C3A-A686-EBDBF6A94AC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8DB414A1-AD6E-454C-AF1B-65C4C35E7A0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6F0392E1-2EBB-4CB8-B952-22FD73B8B3F8}"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46F6DFB-4295-4426-A769-4BF4596DB0D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37AAF02-5510-4693-BF51-CC4F83A9ED0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BFEFEC2-9DFE-4966-A63E-945AEC2B96B9}"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2F4AD1B5-FA59-467B-88E7-FC04F0ACC37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FE6020B0-1305-410D-A1F6-E87B0A455F1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E92B824C-7D24-4C5A-A303-C525241CF1B7}"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E0631152-0848-4EF7-BBD2-ED6061C5855A}"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AD2EA1C9-F86B-480E-8D60-A8D49DF268E7}"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D39F0F37-36C1-43B8-B016-CCA45FCCF778}"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69075BAE-E057-4B2C-BE06-A37B9D5C94EB}"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DAF1D357-F6CA-4F88-9EBE-487D0D276093}"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408DFD24-84F6-4B6B-995B-B16281B47FB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D241809-73D1-4390-AA53-0DC3E52BF80A}"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46D2C9A-61BB-43C4-83EF-C322225445F1}"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0001513A-A001-448F-8787-F1E60957915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02C0544-69EA-46C7-BA3C-1CFB268F966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39FCF77-2B28-4129-BEF8-CCFCC5137A1A}"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F34098E0-B3A3-4F93-890A-50E326AB5727}"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EF34A5FA-74E5-46BC-BB50-DF46CA12BC88}"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E318176D-8EDF-442A-B253-E94EBC557D38}"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76842AE-7B55-4796-A890-CD7CDC6CA8DB}"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23F22D59-AEA5-4C92-AB9A-928D9BEB380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A25CB5B-5988-4A3C-9BBF-7A43972A865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9D7BA4A3-78A9-42EF-9521-0B7847035025}"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0AA63B21-B05B-40D9-9AD2-798266419218}"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C2CFD5A8-3554-4E7E-9D1D-36A5003289BB}"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A785A31-C7C0-4BE3-A319-05026900002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829AA79-10BD-4040-AF6D-356DC01C9769}"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78B5959-27B9-4DD5-AA4B-DB613783827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8A13891-262E-4688-9AA2-7E98F6648038}"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5F44A751-3C20-421E-93B0-57A1EC2B6B5C}"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5C24B945-32F4-43E6-96E2-FFEC17A85696}"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489D201A-79C8-4AF0-BFF8-01248C61B8A9}"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CCA7140B-D29E-40EA-91CD-40FEE6B4664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34B8965-C1E0-48EC-8885-D61B6C14CB2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8E086288-0A0E-49EC-A1D7-1F247D1B8DD7}"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65991AB-5FAC-415D-9E55-707304ED626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C6844A08-B45B-4B33-9EC1-00CA31AC61B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809410B7-C252-46E8-87D1-FAAAF519F90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5B04DC6-3512-4CF0-8DD7-56779FEBF4E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F1BE9C3F-C04B-4DB7-8287-67D34C19BB8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8E22AA9-4F14-46C3-B854-FFD017C4C6E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A4EFB2B0-50DB-42F8-B3FF-D4A6FE35B71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23C5B478-AC8F-458A-BE68-AC57A229A67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766C5150-E62B-4698-A4A3-CD26DAEA691B}"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49DE9727-6402-45B6-989A-F54811E65442}"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1CCF2064-C0CA-4104-8BC0-BCFFB71AD004}"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F5BFACC4-C21A-4579-BF4B-19E15921C7F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E5EB244E-92CB-4819-8685-BEF0B1DC194C}"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6CF78061-F424-4423-85C3-D070C567452B}"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B3799CA4-74A0-4FDA-B25F-CEFB85174BC2}"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47D56898-964A-406C-ADAE-981B80C9F465}"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821D4F9-E478-4D29-B451-D8CF1BB57E3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F859E64C-3BCD-4009-BAC9-F4A86EA5A698}"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AFDEF86C-CFC2-45A8-9ED4-9C48BAD6BC5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0A10C304-D191-458F-A8F9-4DF0DEEB3702}"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73FDC35B-BE6B-4A26-9A62-C1FD1B340131}"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BD163C7-20A9-450D-B3AD-4356F9EEA16F}"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39A03F34-4E04-484D-8C3F-C014E7ECF29D}"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6EDCA6BB-4D8A-4C75-8F89-772FD2711A34}"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3F71139D-BD84-4765-BD3B-AE2B7D7B4270}"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3276B09-86B2-4044-837E-35EEF4012938}"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D32876B0-C42B-476A-8881-C2EB479B51C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6A0FD54B-6B5E-42C7-9DBA-767CFD691A94}"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86D54A4C-793C-47FE-BA08-1D6B5A9A673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2AFA6739-18A9-45D8-87C1-D575D6CA6CA8}"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95EA3D8-D961-47E3-A4E4-955D1B1A8B0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7745D2B-8A11-4EE3-A729-D6B1EC356407}"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D5E715B-1EC7-4948-9F79-14DD05794E9A}"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DA834215-39E7-4390-BC76-17507682220A}"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893757B4-05DC-4C12-BAFA-56CBFC54AC1E}"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A2753FB8-3970-4F36-883F-AB2FBD9DF65A}"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1EC48D8-A33F-4EF4-8AF1-8AE41D7EF2D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4987102-2DCF-4ACE-B32E-161217913B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6D5694-1577-48DE-94E8-B7ABE66CBC2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BE29C91-4EC2-46E5-8F19-C33D201F901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CDCAB230-C7A2-4354-A076-A0EAFC0933D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F740C959-5998-48F6-BAB7-D95D0C8593C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6941C70-6D40-417E-A948-81FFDDD8EEC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A713165-6996-4010-A829-CA089716F00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B9ED8343-AB97-4396-8BC5-41EFAE4467D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90D7CC4D-C236-4EB2-98A8-02B25CFB581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B992D9EA-D9A4-49EE-946C-E9B67599A61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306F5D82-500F-4059-9FF8-F60DCB301D7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570879D-8341-4A41-96D7-50C87FC018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4F5248F-6E86-4551-9DED-66EDBA66F2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D994E15-28DE-41D5-9894-65CA0014DA5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789E127-7258-45BC-9160-680BAE7E697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C294BF8-D312-417C-A093-44C80D43CBD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F440A57-C6C5-4E8B-A651-EE89EE76CAE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008B2DD5-96E0-434C-9840-698593BAACE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F46EF214-6706-40E0-B94B-E5B1B07F325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7A4551A-614E-445D-9C04-BBB827952C8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C242BF4-A046-4B2F-9602-BB3FAC5482B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A6F65649-D931-4960-AF92-B2ACE806F84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0C549D6-ADFB-4A76-899C-0FC9CC27C11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6FF7550B-F41B-4243-9DF2-9002632C1E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CE237E2-7388-4D66-8E85-86DA6B1E9BD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D93BBB44-5555-4FEF-8E15-27EC36B5732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72333A7-8B3B-4FFE-9CD6-47973A5993F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599F3D0-F528-4DDC-8429-555C9DDBD7A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EDD17E0-A2B5-4957-A9D6-196A9112518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46F77003-F3ED-440B-B39D-AF7D1FC477B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C643D166-A22A-4E79-912B-DBE20C259EA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C1A20924-5847-4A9A-998F-63A2C1E66E1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449974A-A19A-40B6-BEF1-CADC4087E99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F10305DD-23D4-4E71-AACF-7D808D7F4F9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2C4AE26-7B0E-4DD3-9597-47A72AC5A4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BCA17A-C781-4FF2-B592-2CE2D2BA6AF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05E3085-750D-4067-8065-59088761C89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83D8FED5-5D78-4E47-B403-0169685FFC5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96C6A91F-2A23-45A4-A1B3-1218C5F0655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E5FC04F-63C3-40B9-B247-19AF3AAF29C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C6A4DF9-5D86-46DF-8E77-D3AE999E092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E7CCD11-C60F-4178-90CA-A2022CDD865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8D8B42F2-0809-41B9-8C37-1BE943526BF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1505F43F-89D0-4EF9-AFD5-E98A493C5FB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9D673F18-3217-4DC4-A563-EEDA4870818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7FB7944-44DE-4559-ABAA-8547825725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4630FCA-4BB1-4AED-B281-ACD0BF50FC0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763EE2F-A140-4931-AF85-009E3E91F7E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9E39A3E-550A-42EA-B578-24B146E24CE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BC77E9B-FF40-4676-8319-C38E6FFEFD1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77C46E7E-154F-4EB5-8859-C3950DF89FA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07EFC8AA-4488-4C41-BC3E-DA424FA0655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D0A44BE-C56A-47C2-841B-FF0F77FE369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EDA4A993-F21E-4066-A69F-C9460187092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685DAD9-9B19-4336-AC6B-CDCD808BDB7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9E7CE4E1-4EAB-4C72-8701-33523C7C427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AD38B8F4-073B-480A-A60E-E8E83CEE20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0ACB80F-B5AD-452C-86C3-AEA258E8B5D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C73A7E89-7D3E-4A95-922E-0B2E5F63A6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33AEB39-9F6B-4BB5-B334-E826BFE031B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13D8417A-0756-4AB0-81E9-AB660A539C3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032D0CF8-C086-455C-B516-A57DCD6CE8B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AF4CAC50-315F-436C-B9E9-A3E9F371501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B07031EF-36B9-4105-992C-98136A3EE00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3119823B-80BC-4A26-8D2A-9C002948A9E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3DD8CBA-F6A2-4B91-B43C-E31DD33A9FD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8B6899C-934F-4AF1-84C7-3F267AA6922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A5E1CE7-FE9E-4830-8147-36F720B9C2D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19E48C-BDBC-4BB1-802A-04DD09515AD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E41F45C8-4D41-4E73-9BEB-CB745ECCDFE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F8267FF3-B44C-4177-9B99-0FF12135E1C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3B54C628-08DA-4402-95F5-6DDED31E83E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1984827-F6BD-4FFD-9211-39A682B070C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616BF35-696B-4C71-A3C6-93EC61CBDAB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26AE0F4D-BE8E-4650-B4A8-BDF1F9BF42B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516F602F-D001-4FC0-8837-0020D3017D3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8C08B514-EE79-46D1-AFE2-7ECD74C1D13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11A8996E-6EA0-4B30-98E1-993A90ACD88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7D986507-C020-4E7A-8B36-EC7AF52ED8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DCEC94-8541-40A1-8B85-1FD220A1347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B2B9AA0-D386-48F9-874E-EE3CDEA37ED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5918597-F0AD-49B0-8BA1-0B051711FD6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327AF5C-0E02-4D5B-A9CF-DE62D9F64AE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D73AF6F9-1751-4103-AC8E-7EDAF9AA23E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03128A9D-5801-4E1E-A4A1-DFE16BCE52A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2C3FF63-9C41-460E-B510-E64BD4FAC52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673C06A-8DB1-435D-A7EE-21B823160C7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EAD354BC-B776-4FD7-B83B-7D3FAED5576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E40A71CB-4C73-461D-9541-B6F0E3BB13D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86B3D781-C697-488A-B0AB-224F57B231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F8DCA-70D1-4F39-94A6-10F63CA234D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F39F59F1-15A5-492E-8314-C1E9BB64CE1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2B8D2115-D159-4420-A938-C91F4E59140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1AE81EC-29D9-4EC7-AFAB-B5EE2BDD384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83CCD1C3-D7EE-496C-B3D0-EB5C52390D9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BBC61BB9-5219-4229-AEA7-C3EF98AC787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22F1F272-D157-4527-8840-72BA3AA841B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FA703644-E014-40E2-A780-38306F19654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50F6082-4B7C-4E11-A507-FF72A9EB71C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235674B1-471E-4410-83B5-B06023FFEF9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27F9B554-D8BE-4EF2-B52A-959E98C83B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9FE17EF-0A49-4B92-BA13-F26B1FA7781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5364EC1-F2E2-42AD-823C-E89A2C28715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75CE6EEF-260B-4D7C-8FB1-26A1125122E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ECA5857-7549-44D8-A11D-D2AE3B60654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CE8AF36-FE58-4045-983B-6D4D3DEA560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9E89FD4-960B-4909-A339-3043026DE04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917543B-D94C-49B6-9913-5008C809B9C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92285AE4-B4AB-4102-B025-6B9776C8C44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00833158-9CB7-4A00-A67D-214FEEFCE62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8D3B607-55C4-42F5-BF0C-C504F06829A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D7BE453-3A44-4339-BDD6-7CA767784C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5BE14B-9136-4622-865D-CAB32E7145F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1D33AAB8-0951-4544-8EAE-45C55BF1F04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070ED4E7-5440-4BE7-A6F4-E5A6B2E3C6D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33B665F6-194E-47B2-99F0-DCF001AE922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0A1E06F8-9EE3-4F31-825E-58DF4FA943D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8411E94A-58E1-44A7-94B3-1FC99030FED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96855132-7E04-443B-B60F-28F42AA5A23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80B116A-FC4B-4A74-A1A3-B0AE95AB7C1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BD5AADA-A233-4095-A48E-06C15DD2629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3B238106-304C-4585-A6C9-857B0B65D40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0C488A63-0E33-4FC5-B83B-C7BF8CD9FC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36853AF-6558-4E95-871D-548A4E04F4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78C14ED-20DC-42D4-9350-83B56809AAD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A3E9923D-A0AC-4B69-A266-542B32BA68C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41C88D14-DD4A-4F08-BAE3-EC74D1A1050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9AE2877-A338-4032-8C54-358C32FE908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FB9CCB9D-0CDD-4398-A621-EEA268F1621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9224B47-CD94-455A-A3DA-05861914A57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B28CD2AA-02CF-415A-93AD-54A6A570710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A27B7468-F76F-4171-8F53-0DD3A5A0764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6B52879-D5D3-48B7-A686-6B0FDEA57B7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7FBF40E-A58D-4E7C-86C5-2D6364C18FE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E5E8528-261F-4E76-AB13-CF27E59A16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36B8317-C3AD-4AE0-9D3C-4EF53F8062E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933177CC-1689-420A-80D9-16DF187A65E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1DED6A89-80FE-4365-90EA-37A6E0E8D50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FC29E8BD-F578-4498-9318-1A9639DDFCB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5EFDE84-7D6C-4B7B-9F83-18BD03E1B9D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2A52A34B-A021-4B50-A58A-BD5791F1AF8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0AA01FE3-98EE-43B1-991B-1222CDCFB29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5C8F1CDA-BE16-4781-ADE4-C556F2BA9A4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980125E3-1182-4085-A6BD-FB7176E5EEE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4A2D0FEA-86C9-4D0E-81D3-99B9CAE321F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9458BA92-3D6F-4136-9280-CB24A0FC04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E7470CC-F9AF-4CC1-AA10-D392898D6F2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9F701FA-A2F0-4E14-A980-1683DC5DB5D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A5A003FA-F679-493F-8EAB-D6D80E64374A}"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0EE840DA-9265-418D-A59C-481AB7B0E9C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CC926F28-9D2B-49F6-BF50-8E69514149D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405B1DD2-CB1C-4F8E-B1D2-219C9C9BFE1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861F5424-A614-4A81-8EE4-109B10913151}"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472A2D2-AE46-4950-9759-2AF7CC88641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E25B3CD2-3797-45F4-B734-81EA220D85C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E5B93D69-B6CF-4C69-B1A9-82822295AB3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B1263DB1-CECE-41FA-958F-CE3934B43A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FCE3DC4-B244-4A8D-8D1D-DF198A205EE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E7EC925F-6AD0-4D5B-A3A5-3CA8DE6A7A5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4160C64-C675-4EC6-BC65-84F5E042A53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B7535A8-39E9-4627-A525-57B03682EF8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9B5558D-247B-4860-9615-2C1A2173D09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BEA1C16-53C0-4FB8-ADC3-891A2B0582E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3D75184F-6926-4C64-B066-AE88AC5EB1A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A05C0D08-1E58-418B-A02B-8BFAF08E9C8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F65AAFA-59B2-46EA-843E-4A3C5408FEA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35ABEF69-3469-4D99-BDAB-74F46642DB2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655B95A4-54E0-404A-AF08-C27FD13B0D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B1FCFBC-06BE-4DDC-81E1-110A63DAAF7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5C0A165C-AE7A-4649-86CB-EB629EDEFF2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EB4881DB-3B90-4DC9-9056-35970766721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1602333F-7506-4AF9-BA67-2F24DC0C8424}"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0B6E53F-723F-40E7-BDBC-3FBD6165483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6F2FC53-FD7F-4D26-8144-B3D17DA8A0D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E694B18D-551C-4D30-9292-A749872F479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6DD3B86C-2FEF-4CE2-9E7D-8B707FBCE9C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CB09992-A918-4B47-BC7A-E0E3F0A95F6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F0CA2480-C03F-4B2C-B966-3305F2F0C6B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BF25B6B-1D69-48D0-AA66-9A50FB3A11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D453FDA-56E7-4C74-875E-4A33F834690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F199C92-B86B-49AB-95A5-832A2CF6DBA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17630A6B-05E7-40C0-9C5F-088B8B59634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B078B4A-936D-4BA7-A630-26B6E625CDB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0D4ABA19-EB8B-45E3-9BF9-9137BD2D950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EFA829B6-9AF1-4A68-83FA-3A5A963B0E2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E41DB86-1D6C-4636-A231-7A9814E4575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052E028A-3006-455A-A4EA-43D0D637851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B05C8FC0-67C6-4787-83F1-51277F0EF243}"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71F0882-E390-4D2F-9A7C-FE865B8D437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E7A4A2AF-DA31-4CA3-9F79-5ABD6EEDE6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A3696E4-F135-49B9-8135-B142533CFCF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DCC47214-CA2E-408B-B9BC-EA2E6E57D72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F164F00-725C-4640-A773-270EAFA7FF2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21EAD9D-03EB-4252-8825-B5D171F567A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48A068B4-6A80-472D-91DC-C1611BD337D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A5979A38-64AF-4F0B-B328-903E7395ADE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2B2666B6-EFCA-430A-96BD-8948BF7DAD3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D5AEB95B-B4B0-4745-A9B5-0F32C883FBF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E468CDFD-8692-4EA2-B3F3-D55C6A69A89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9A821FF-F2C0-4425-AAEF-ABAF022B754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43F054E-C70E-49E2-9DE9-D7F8CE74E5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421F72-2883-4659-B359-71902B4E88E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80445026-E0E8-4757-B176-FCB1FE605B5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2C7A96B5-E778-43FC-96A6-E587B9F423A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95D4D768-2FFD-4D83-ACB8-C613E3FBD5C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8383E1E-B4AD-4F00-AB46-10563DC8DD6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88975B69-8149-4A45-B535-951E5028601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D39AB5E9-01ED-4A0E-9F8F-CB5BCF61FE3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A37B7362-E4DC-46C8-92A9-C92B86A1631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801119C9-7AFD-44E6-9079-676B3FBE96A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46531DBB-B575-45AD-A9C7-09948490CFB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B131DFD-814E-4E1A-AF06-991A51BE6EA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E482513-05F7-44A0-89F8-CC4EF10EA48D}"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7A833ADC-071E-4F3B-AABF-45A2A0BDF75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BE28528B-E50D-4533-9009-2312A7026A5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1343E6B-DAE1-482D-8466-6837D8ABEE7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BF86761F-D64D-4767-AEA3-541BFBC0EEA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825FDEAB-F34B-4A95-828C-E0DE2D31C78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E40F204-4A7F-42E6-B567-3CD088BD23A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F0F6FDCB-4977-4F04-A4B8-5DE624BFE06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DF3A72A8-1FFF-4DAB-A3D1-A3155D49A24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E2C986F-A658-4B9C-B12B-C3EE14310CA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56512634-7D4A-44A4-BA02-B669C7FAB3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47377EA-ED1F-49F6-A432-1071F75A3DB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5CED84BC-BF3D-494E-B0A1-8C41AA54BF40}"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0230CE0-F1D5-4F75-BFEA-D3A4251E17D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9D48DFA-6EA8-4435-AFBB-EF9860F37C88}"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4C8B8E3-E2F3-487C-BA2E-28B3DB9D435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9FBF1C64-B6BB-4E0D-88FB-2C39C6C7770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C9C16127-47B2-4D5A-94BC-B94971B7FD0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D1F4A5E0-7FC7-4AE6-A052-2D86BAB5704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F1ABEA1-7822-4734-83CA-920D055576F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4EA5888-D0B6-4AF3-891A-CA9AE511337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F56A15E5-0D8A-416C-B7D6-0BC78BB40A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1BD085A-9808-4CE8-85E1-CD6BFBA4B3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F36FC1C-CF84-417B-B52D-0F6ADF25CE0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EB69E1AF-9978-4FE0-87F2-6E9AF66F0C6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2D44DCA9-10D5-4E90-A543-3329D1C169B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5341EB69-32C6-41B1-88C1-52EA9508793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C5E84FE-1118-4FCA-B0A1-DBB02FBD2CB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8CFFD05-379C-4270-BF04-75954C8E9EF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AED6CE5-D108-4199-BE5D-6566E7CBBC4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829B29D9-6678-4029-AE35-8F059A8A675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E10F2753-D3B1-4A26-A8A4-5DA752B558C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46C2539E-F752-4752-B2D1-24515CF0E31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8FF0498C-6D28-4DC0-99DC-9AB71D1D43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1C41D4A-94E8-4A11-9F3B-277ECD754C5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E28A0A5-9ABC-427D-952E-D6816D5EDB2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2D8AC7CE-599D-4702-AD84-B1A7D39CAF5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5A5E7943-085F-40C4-B978-11B47507F9C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2A9E82B2-64B8-4342-9D65-D79317DC987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5D758AF0-3333-4FCA-A5A8-44A578128D90}"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7B4EE4A-9C59-4B34-8855-10E198FD631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3C65AD85-52F3-4BB9-8BF6-7B3ACD3ED39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2E5C36E-BB77-4165-987B-1F534A87FC2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B5C74944-D388-4803-9004-6DB5C24891C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91F7B6CB-2C5E-44F6-B745-2E4850566B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65913BE-0DBF-4941-B3A1-F6331318F30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A83D2226-4977-4E9A-A228-B07FC617BEF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88D5484-3576-42C7-A02B-AD2CB8A267A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1CD2B83-1AE6-4306-9417-9841293DDB2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30E8D7F7-46BE-4266-A07F-5A0568A7D0C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581AC3D6-8385-46FB-8843-F5FDEFC845F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E569CBFA-A9DE-42E9-AF68-B3929D3E3F6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12812B3-4060-4689-B734-C1A5AFDB458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4BFC914-CB7A-4BD4-A336-AB1AF48CFB4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B698F79-5271-48B0-BC38-2614EB44DB1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3EA81D1-AD5D-45E7-9F58-EA0F011A64C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53F827F-B13E-4B23-8111-E4948754B97D}"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22F8582-A6D8-4C36-A933-D15CEE5C0CA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A978A7EB-1B0D-421E-8F33-1E8543E7394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FC880604-5E74-4F8D-BBD4-5056B1334EF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C62B927-A568-4F1D-84BF-AAFD895A700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90FC59E-AE8A-49A4-9039-6A8BB3415DE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A694074-6C13-43DF-87FF-B5179B71F02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CD56DD5-51C2-49BC-8EC3-72D5D9C59F7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174C4865-4198-4A37-9552-064BB40CCD1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01DC811-B9B0-4DA8-B622-4FE492F1253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994BB94-6EA0-4FDF-8CD0-53F23CF3A3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FDBB853-A962-4F34-8165-49B3787AEC9C}"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292F3B5-CE29-4711-A76D-0200556601D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3BDA2F1-60FC-4C90-8B34-B851E478ED4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BCC587D-8D33-4460-A946-9A5045C38C2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22FADA5-9CD4-434A-835F-2EBECDB2D179}"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AE21E297-7CB3-4930-8D76-180360E1A4E6}"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6BC5B1D6-895D-4FA2-B3A0-8CE4B6F5EAF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5500AB47-CF44-49DF-BCE7-D70EFF0C917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03D5767F-D952-479F-B5C7-464280DBA23A}"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97B817F8-E6AA-493D-9E68-0E16DDDEC13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E75B6DB5-CEC2-41BE-A967-45139B9339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7BA4E26-D02F-46C5-A4D4-322803CC431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4A755152-1FBA-4682-AA36-EFF6B825DCDE}"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DB436F9-DC5C-4E4C-9BAD-FD7557213B5C}"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60F0628-1892-45C7-B61A-FB8916E5468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4EEA44B-BAE5-4E9F-A92A-735D9587035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8E84AA2-F3B7-4EFF-935E-D4E9267B2292}"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548E1159-05D0-4F39-A563-F5E8F9A8109F}"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827E09E3-80FB-48F6-84EF-40CB738AF9D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49DA1EC-9BB0-4163-A489-1801D8E0C052}"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E576FD29-D1F2-4C5A-8776-1AF25416D9DB}"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3B136DE4-4F40-4EF5-A153-54BE4402708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12905E7-368D-48C1-80E8-B35AE7495E9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C3410F3-FFC5-4B48-8847-57719241AE68}"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2CA13F57-E405-4278-8100-13E2D102F5B3}"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15643B6B-35D6-41F8-AD74-7A7B89363100}"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040D2F14-1A0F-4247-9089-1C3936572E4D}"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C793499-A296-44EA-8F58-5C99836B2008}"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AEFC791C-4F40-4925-8CC7-0A2AFC52923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922A4236-5EC1-4DF0-B3E7-A60B43C5D98B}"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10487487-9248-4549-8C97-B3420F617A8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8ECC13EA-DDB6-4560-8632-6C7C2A290AD8}"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420A61C2-A8D1-46AB-8C54-E52930B07C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EF197DC-A3E2-4C31-896F-311220A4C1AA}"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50312C94-D154-44C0-ADE5-87B6DB53520F}"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AE9DBCF0-940E-430A-A99E-76B3810E2931}"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5FF77B6-0BDA-4BFA-9A58-D8EA29335EAF}"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93259B89-AFCB-478C-94E4-234D8660F8E1}"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5BA04313-59A5-4BE2-BAF3-43FA1FA5E9E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A0EA37A-9D55-4410-83F0-773B682018E3}"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D133EED1-7173-4841-9554-881D73029E9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9A4B805-A57C-49E9-9B04-50F0D7E695F7}"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2B45A66-1BC0-42EB-AD44-434BFB88DF10}"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C3996B85-B4BC-4880-A3C6-199E29A72B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9F0DF1D-5484-4E6C-827A-3A486A3A3335}"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68BFF5F-A857-4DE5-91AC-0A6B9E7E8E7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F067E89-92DA-40B6-A9F5-4164993236B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D1A7385-E296-4844-B2C8-14746356101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B44A67D-D047-476E-8DE9-26CA7683653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4B15734-A9BB-4152-90C1-7BE6651EC141}"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49B6AAED-B07A-45B6-8B0A-1356E69A0F2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698BEF13-749C-442C-9D25-C653541C4F27}"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17F3C67-9AB4-4421-8680-40B4E42C9C2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8D297B4-6A49-4FBD-A083-FC1AF8C47E27}"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979D15B-47B9-4BFF-8E06-4A978CF58C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5A56D0-0062-4F70-BB2C-A1FD6BB721D6}"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692D7E07-AF73-4C7F-914A-DFFF021B06F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EDC40456-72ED-4759-AC1B-655B755B6AA0}"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AC9F9B1B-DD0C-4BED-AE26-215E2CCE2A7C}"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ABEBD243-8B57-4187-810E-A5165E9375B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80A98E60-B06C-4770-8CA3-80A51E1E1E3F}"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3C6D24A2-D58B-4006-AFC0-637912B82A3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56C59C9-E5F8-4985-8689-C069F1DB6A36}"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116C2130-8834-4AE4-9EED-483F2B088B4A}"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10E38468-4FC5-41F9-8D52-1AA0FD1C4D2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69D172F-ABAD-4CF5-818F-BA95AF1B98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509E166-D8BD-4EA7-9A24-A9CDAB42AF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B7652D1-C5A6-4500-AE4A-6861D0EC68B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F7E720BB-8237-4FDE-AC02-451DE9128F49}"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255EDC4A-03B9-4F7D-981F-BAF5B0EE2F1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4D28AEFF-8FE0-469C-A3A4-9614D00599A5}"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439CC693-8B73-4835-9C74-65F80F981FE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D87130BD-81CB-4591-8756-2D7D3332B14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D249DD1-143A-4AF7-BED0-0EB8359F1A01}"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BB4C7D9-DD56-4FFC-BD1F-7A3F9B574E77}"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EC2A314-F17B-4A17-B71B-E1BC51843BD1}"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4763D952-B1AD-451D-BAB6-AC1DDC56C22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A7B0B2A-9C5F-4955-95A4-BFAD1BA290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602C76D-33C6-45CD-B3DD-6E8CE80A1CF1}"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73774754-6AA2-48E3-97AF-92111EA93CE7}"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93431C2-687E-4968-9236-EAA056ACF09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5CDFA6E-8090-4671-A956-F11130A16A7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2F76B79-2197-4E5C-8035-AA18D82CE462}"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0AE9398-CF94-43DD-BF52-4F7C27C6A080}"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20E0DB79-DA86-4035-82A0-B1C23232A22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245A6F82-73FB-4C71-8070-BF38670563A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B5B8D29E-564E-47DA-BA67-0D098178CD3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E143B8A4-A1C4-4E90-9AF7-9C16F1B22EE6}"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798A376E-345F-4286-B849-827E63756E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E60A420-3A08-493D-AF0A-DCF1BF0D307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E5B1B4FD-4516-4BC7-BEB1-DFD2924F98C0}"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73E569C5-7E99-4318-8363-98ADB782F9EA}"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4189A5D8-BDA4-47FD-BEF8-7646FB44995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75E3D81F-7A00-40F1-A311-D0A90919FB7F}"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9BC37368-7946-488A-8DC6-F35CB0A1A0CF}"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AC1BD84-102B-4524-8F6A-D8B4AB98296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2FFB4EF1-74CE-411F-8933-0426E13FD7FF}"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8870C0EA-B364-40FF-8BBC-EB8B655084D6}"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C2AC0905-831A-4F81-8801-41D96A84C4C0}"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7423100-23FB-48B0-93AF-594FE480DA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569210C-A16B-4E62-8A4A-6C69ACD2909C}"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A360E7E9-B15D-4E22-B33E-0CFFACD9F472}"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8AA4A1E-AF81-4639-99F7-21C16E7B9FF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A5B01E62-880D-453F-8556-4DC0C382CC42}"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6AF85C12-76C5-4507-ADE8-96D5DA465398}"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44909428-32BA-43A3-8C7F-FB0BCEC78D3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2CB7C14-92CA-4717-9818-DFDA12AFC2C5}"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378440A-E366-4502-8755-CB8E724358A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01E28BD-F05D-45E4-8E26-5DECFC203E2C}"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C599B73B-C9AC-4B62-9A26-1EA53135B34D}"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DC4221A7-F3A0-4ADD-9F3A-453B941AFE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BE90B55-0805-49C7-9B70-FDC55A852CC0}"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429B60D0-2531-41FF-97E1-07E795907D2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2EDC142-4C0D-4BA4-8218-68C9CC1A3B4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A50B5D32-0858-423A-82DF-54B30AE14E06}"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2823D2C3-2ABF-4F27-B022-77F948794D6E}"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40051BD-512C-44BD-89D9-BBB7855BF0B0}"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EBD15FA9-4F21-4113-BC11-878A1F43D19C}"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FC0BB8CF-4C5D-4D37-B6F3-27C6DE59352F}"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9761380A-621B-4733-858A-3082F4984653}"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90E53640-593F-4A9A-9E77-C1FFED5AC0F9}"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C22503BE-BE55-4CB2-AD05-46973472C5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8C819B7-DC76-45D8-A11D-7C12F558F7D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83D46637-93CE-460C-9A2B-7EF49230C51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9B2C0986-5A9D-44BF-98D5-DD4AE14D73D2}"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9C82895-C179-42C1-B14A-FB63393A96A2}"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87FEFDAB-346F-4D81-978C-9EE30CED27D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3046731-F9A4-49C5-A646-2F5473CFA3F2}"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B676B9C9-CEB1-4098-8015-8AA3BE0BA135}"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2FD8DECA-904C-4CCC-8CC3-C46F460ED733}"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40634F1F-7CF4-40E7-9D7A-2CD05CE530C8}"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151B202B-2A3C-478F-8F94-4996951F55D0}"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3A4F3285-9809-46B6-AD92-15F73190AF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77099BE-1BF3-459E-94FE-FEE05565C431}"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706549B-D545-4F69-8BAA-8C789DA87FC0}"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742204C-EAD1-45CB-8F97-A0B1B764DDA5}"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8528454-C117-4767-81F7-95BCC772083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051F7DE9-4E81-48D3-87D1-93457E39A068}"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463FF1A3-87B6-4561-8FF1-98B5D599CCC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0C1F5922-B886-4B2F-8378-7D923FEA149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7E5BEB61-397B-4F46-9594-5AEE9774C73B}"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23F527B9-AD8B-40AE-BD8A-9A12572A3E4A}"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2F42502A-2E86-46A3-8123-BE6833DC2BA8}"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9791B94F-1CDD-44EB-8905-2E00A39E82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4F1DA25-7123-4DCC-9421-916FEB2C9800}"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559AE80B-78E3-47DE-802B-765727217F9B}"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FCF0923-52B1-48BB-BD51-57C225510FF5}"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E584EE81-4576-4290-8F2E-2EED7375E1C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0643E875-7DBF-4C49-9E56-4A8CB30BA6F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86457A4-8A9D-4EED-958B-E759BF8E7A3B}"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ECC67CF4-1ED9-41DF-9237-A9FD92AFD19B}"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D02489BB-D9A3-4565-A1D1-4424F046A3F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74B6A36D-8910-4CE6-B9D5-DEA5F44AF1D4}"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6082FB6-2467-417A-B207-44A7247299A3}"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F2FF1807-7DE5-4D07-82DA-768F82CC3B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B324A2E-6BD0-4D2A-90AC-76FE3828213B}"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1BA84F2C-2D32-4FB5-931E-B82EC82806DA}"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891FC0EA-79BE-47DA-A028-C93AB7C26F9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E696904E-67D7-4F9F-8187-DA5668DC41C1}"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379C93A-D59C-45A0-A6DD-FFD13D9AFA3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2646BDD-DB10-46E9-BA9A-0BEC49AC4922}"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EBD4A3B-E1A0-4C71-B5CF-5C8EFB53DC0F}"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8CB6550B-4A1E-4BD3-9C24-EFBE55DC641D}"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1759CEF2-22DF-4E68-BCE2-67D785E563CF}"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E7324D11-293F-42B3-B82C-A63C93B10206}"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290F9A5-7873-4FC6-9004-E36DDECA5E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8EBC88F-C4A9-439A-B3B2-174D63D5394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A63867E1-951F-4EC9-805C-4893A61B8307}"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8BDC19A2-8976-4BB9-B04C-E6A580D56B3A}"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DD295112-6EE7-4A07-A0B1-991C3CF62041}"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768FD0C3-7834-48B8-A395-B83A576838BA}"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EE330B99-E902-44A1-81E0-5C426ABBF0D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1D915E2-08C3-4B7B-9F67-EEDF64F7F1C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42C6D7A-96AA-4E76-B85D-30CF6E60C91B}"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E9D7EA3-6CD0-488C-AA12-08F1637989E2}"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498A822-88C7-481F-90CB-3F81BAD6DA5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37ED1E53-148A-4E74-AFE0-25B8AAF6B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655E03E-732B-4A39-8F8A-2F117A14B3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B76B082-E495-4FB5-8F53-01B2E1C4537B}"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94F5C8F9-68F7-4BB5-B169-588CAB18D222}"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EE2656A7-5AC3-4428-BD72-16E13F02D070}"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9A9539BF-82B2-44EB-9F2F-038AA949F364}"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5096A5DA-F874-43A1-8DF3-67013E69FD3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DC75ABF-CC3E-4BF7-94B6-A54A65D9F7E4}"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BFAA370A-B1AF-437B-8F78-F4E002BBEC65}"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F825EB53-4258-4344-990E-E889F8AD186B}"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94E97DD-2516-4C09-931C-6D838E53BD3C}"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E504087-0DB4-4ECB-952E-9F8828E253ED}"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DE82900-D1AC-4B38-83C1-F213E9E62D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29283B-5117-4077-95FE-3E378A8C768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AD7309B-9C47-48E1-98B4-B00F90A0B5FA}"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A8AA31D9-F4A3-44DF-A667-261B2B46A19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F88F9C05-0EBC-4A3F-B2BD-6C95F7D1DC5D}"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DB7204C-CA69-4D14-A728-90E83F0224EA}"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8A7564E1-405B-4395-A569-6893C57D708C}"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5647DB31-9484-456D-93CE-6B68181794A3}"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1A9AF488-9122-4CB7-8EDA-97EA0EED5B9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4AB6ABF5-DC05-40FA-8AA7-03785566A3B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C1F99006-D9F3-418E-B15B-F2B58F1561B0}"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28A636B0-FCFB-46A5-8F6C-2E33B107DD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0E45683-5015-4548-9679-9109604D4748}"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EC22DCB-CE35-43EE-9D00-46DBCB676BF4}"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ACD1319-2980-4322-9B78-F2345AD99D98}"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9CEB2B16-2D3C-4D61-8A3A-44FA8C0680B6}"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1921D267-48CD-40A8-92E7-6504D94EBA2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7F70C8DF-695F-4655-8C51-36E3E0875D92}"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2D0F73A8-3D70-4D89-8A9E-3B068A0762C7}"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AFAD900F-7ACF-47CF-BC98-FB08CD7D8A56}"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4B68162-00D5-4554-BD41-D814CE57087A}"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47A5D8E1-D00F-4CFD-B9E5-BF83910BEC8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17361A53-55DE-4077-BA25-9B4A0E4CEF5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5837E18-34A7-4525-BE1B-ACC6C5162AD7}"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8533AF1B-E7AA-46B3-8E7A-8030326E431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B810B83-FD86-4BE3-ADBE-23F8B45BACB7}"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2C33357-BEFE-4529-8D23-C89701B70E81}"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4BABEB9C-1BCF-4B61-A580-05B560F1CEE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B691BAB-35EC-42F9-8382-3DF66B1F2F8F}"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FD1B9E46-6801-4B11-AD84-56BB05D75FEC}"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4E82EF91-28CE-481C-A141-5BF54188F1E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A9F3EDA-A133-4AC9-84E8-406A10915988}"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21455C64-D66E-4E61-8294-24817BBF775E}"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6C95FCE-CB3C-457E-8033-D9E8BFB5BE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51490A8-CD58-413D-9276-B060E03F5911}"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C8F534BE-E134-4D37-9F65-9B00FCB692C3}"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A5BDDCAD-BFAE-4802-A44C-F8B6202F05AB}"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E3F8D4F0-DFC5-49CF-ABE1-F7DAC805938C}"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9DBFEC9-EA3A-48AA-A66F-FD689C0EE191}"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C2C174A-2C09-4C25-9411-A610034062B3}"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3B0A288-F4DE-4E5A-BE38-705E9DB37E3E}"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EAE1468-D33D-4240-8A82-3C9240DE17D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A590D687-3A47-4774-85B5-EDACAECCC27D}"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2FDE7A82-A190-4F92-8AAB-43C737DFB5B0}"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213C6D6B-7658-418B-A861-85278EC611B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07EB973-F0CB-4076-8153-8DE310A24F3E}"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15B5F1B7-2E6A-4B1F-ACC4-A867CC74BA0C}"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C0A6EE2-60BB-435A-8FF5-C6E76A2B2155}"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F83933C-7D76-4BB3-B49A-C664DEA0AFF3}"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6F1174A5-23F3-491E-8852-0DEBC0D483F1}"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CC275157-E66F-4DFB-A501-1D583ED6D3E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C0CB953-D621-4086-9D0A-189DC45503FF}"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2846372C-E956-4435-B330-7883B51E745F}"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FF07B573-AFCE-4233-BDB2-21CB8E36F845}"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E9B96E59-6AA2-4445-8C7E-B7FB954F2C94}"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296159AE-E6C8-49A6-91DA-57EB59E2FAD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AF96EC1-F450-474F-AC7D-C6DCC6613EDA}"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E119CAA3-B8A4-4887-A32B-14EF11FB22C7}"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D0D3B863-CCB0-45F5-8C2D-C7E3882185F1}"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5F3837FF-0E8D-4691-87F1-D9DC45B9058F}"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1C13B36E-DED5-4CFE-9ED2-F4C7554945B9}"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582E7CFA-30F3-46AB-A7F6-D1C164F147A0}"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39889418-AFC1-41F3-B8F6-0767C8D3FE78}"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9637FFF1-008D-4F59-95A7-C2B354C1594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82E776A-F107-4E66-89FB-74F15151490B}"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16B96AF-C69C-4F1C-BD1E-2D463E8C2504}"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B644D89B-C43D-4E6A-AB0C-7CFA924754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9CD24A7-5C9A-4D04-B926-102227AB3F5A}"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D090B588-A04C-48EE-83F8-D34409329B35}"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3FB4A9F9-6406-4435-957C-F0C1F31C7E30}"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23D5520B-8C2B-4F5F-97E1-DFC151B940D6}"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71D2387E-B027-4B63-9ABD-4C702AE9BA70}"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E7A75F7E-00AA-45B9-87A8-E00F1339D63F}"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FEDECD7-1377-4914-8B16-8A194303238E}"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11703042-A694-4A0A-BAB5-E083504E4F6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7C3BCACA-5C48-4F4A-BFC3-CF27F5DED895}"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6A791233-C223-416D-85F8-C83299C61F79}"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3A67B26-DE57-4C76-8835-6FB856DCCF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F86FE57-31F9-4659-B78B-8B5821F43F2E}"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CE0A38E-3A37-49E6-888C-75251AF7BD79}"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8274F07-2A87-4A09-ACD7-FAEA3B2ABDFA}"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C3FEE77F-F900-4031-A788-0D328B24321A}"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031E0115-6E20-4704-9CC8-BCC558034D1E}"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6B4DBBA2-7057-41FF-9E9C-35F6BEA44EAC}"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959D0709-E179-4C1B-802F-2DC69B88EBA8}"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2A7C7A93-2E0E-4468-97CA-905AC0CE7819}"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25E0441E-847B-45FB-8454-9FDB5593628A}"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5873C1F-2043-4FAE-9E12-DA5569A18BA3}"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BF6D90AD-8EFF-47FE-84AA-45DFF9BA1C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01C1D88-A358-409E-9AE8-5907A4DAA655}"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91C61AE6-16E5-4861-8EFC-3B118B21C3D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A912A0D-0503-4874-A067-FF42AC65E9AA}"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42F3AFF6-C9FE-4E7C-9749-C398820677E4}"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45976DE7-9E7A-4D43-815B-ABA5BF9C09CC}"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C32B8261-1ED5-420A-9002-772FBB8B5CC6}"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6DA06E3D-6FA5-43C4-9251-20C619AA4434}"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02221746-A561-4A5D-9643-4D5B4FC3F7D2}"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124A7F5-818D-41D6-8EC2-9FED34B298AA}"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3C30151E-2C4D-439B-A67F-9BEF2A8B3A5C}"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B829D9D2-933E-4E6A-A438-3211D88345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694A4EA-48B5-42B9-A2CB-EB71A238A5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0822B9A-E2A7-4B9D-B07A-21D03B06B2B4}"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D2567804-7E14-471C-88AF-C71AF2B30DD8}"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E1C02882-A172-495C-8928-A30A6FBE6DD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3AE1B2FA-9AA6-4D94-B2C5-E7B046A83D6F}"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6F68BE1-84A1-495B-A2D6-D840606A2A9B}"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6D2FAB2B-A447-47FD-827E-E8FF4C88553E}"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3C9ABDFE-8500-448C-8802-ACA8163C6DA6}"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68B530EB-A6DD-48A1-908F-158CAF9D5499}"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E7479C82-84EC-4E9C-AC98-80658D9626C4}"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74914CA8-86CF-4ACD-8333-CFE08F82225B}"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3CEA39B2-0800-460E-BBFF-C94738878A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0ED4969-96F5-4A3E-BAE3-C24EDDBEE6FE}"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06743ED2-41C7-447E-82A8-F1A46F5F461F}"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78AE117-6A8E-41CB-945D-DC6995E9E32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F854988-9D70-42A5-8B4C-2E72C131C30C}"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60916F78-8D27-448F-AC3F-56DE616EA8D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5FC81374-A1F2-4635-894E-F6C01B5E2300}"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786E510-7398-42F4-A572-3EF15EAED33A}"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AD74313E-F959-4634-B04C-FD39F6AD6EC8}"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5709371A-8CA6-460A-B4A3-394957EFE526}"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F353C7D7-0627-4395-924E-E92EDA194A73}"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BD6EBF3C-5C62-4A9B-9D4C-3DD2FCEA17E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1AF0889-6E18-4C22-B546-B47BFDC6380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EF492435-8437-4F88-A541-70B08B3EFF5E}"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CA0748BE-FEEB-440D-94E1-30BE44336134}"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B796C751-37E1-46B7-B447-641C61809773}"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33E3FAEF-04FE-4BE6-A5DF-BEE347BC2AFF}"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1F06F341-D200-4067-A408-94C84BC55706}"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0D36BFE5-7718-419C-8E63-08D07276AD5A}"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CC4E531D-8DCF-49A4-941F-841590EA6C0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414590C-0664-4232-9EC0-301EF8CCB78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B227999-1123-4FD8-B12B-91D54854753C}"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97602A8-887A-4DD2-BF95-8096EE0388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14312D-75B6-4C74-A931-11B1954E52FB}"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E9A3C585-29B6-4B31-B19F-4CEEA424F010}"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113D0BBB-A8D1-494E-9133-000B31114B3F}"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A625845F-E00E-4CBB-B1C5-F388DC879907}"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732B914D-24C1-4F33-8D57-37292207D4A7}"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D6C50168-5902-4C6A-A8B8-F6F0E4A6F8ED}"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DB94D97-E7F5-4B9A-97C6-42437300136D}"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E541804F-8781-4095-9D31-8668B286D53E}"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B22B37B6-3A65-4C71-B87E-401AA83E84DB}"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6C6E9F0C-1EFA-4CE5-9EEF-B005C577D2B3}"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E77DE98-2BD6-4ED9-9046-35370CA47E5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A70F3E4-31CF-4B6C-BDD8-A0A26E490FB9}"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3CCABDC1-9D9E-4438-8D77-727C55A60BFA}"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95D24AD9-74B7-40BC-BD41-1A8275A88D8D}"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00825006-B7A1-4D65-8063-F4674C20A021}"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BD3DE781-631E-4F09-B3DA-BFE105097EA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5CA9C951-DE86-4279-A6E8-97CCCFFEEFDC}"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AFCE6DAF-431E-4B9F-B17A-A1CADCF5D80B}"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44BAAAF7-BECA-4B0C-A29A-5CBA6FB6BB43}"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2A2EC635-687E-473E-B124-717E6A81CAD6}"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B46D278C-C125-4DC3-A772-CBBF01064C7D}"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6D960119-AE9E-419F-BDF6-0C17D950CB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34A80FD-F9D7-4D31-8159-2AEE85223DEB}"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92929F54-18BF-4BF8-9E85-3C317DD3821C}"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DD20689-A76F-462D-B592-F1487306262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897F25A-905D-45E6-8A52-8CE1884E56B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E191194-FC3D-49A3-A499-A70EE401F66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F51984C2-B240-4429-800D-79193985A8F7}"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C2590790-83B4-4852-B9AD-77A6233EB428}"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02AB2BB4-BEE3-431C-8F6A-FD0735B0D198}"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7C579481-F80F-4E86-B681-24A7CA752A56}"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563B4E2-68DA-46BE-ADB3-E492233BC79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2664CDCB-16DF-4F19-B981-92BDF97855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5FB729D-2621-4ADD-8AF9-4BD46896BABA}"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AB212E2C-CFBC-4E10-B592-FA4A372970ED}"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106D80FC-CB9B-4248-B00E-78E7AA3A690B}"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3DDC1A30-E20D-4693-BA3E-7C92F33E864E}"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48D5BBF-BF28-4BD3-B73B-F4CC12A83B3C}"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6F2961A-69D9-413F-AB5A-8206FE0DCB1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CBAB8FC9-B111-4B19-A8F6-AF0048DAC352}"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A5054C39-F25B-4320-82D0-A5049ADFF1C3}"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9D5FE4F2-048B-4053-8637-036D071ABB66}"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4A29B2ED-2A17-4215-BEDD-248AF89E4DEF}"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BA86F0E7-B9F8-433F-A224-4FBBE5099E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11538A7-3471-4438-8CDF-397624EA3C18}"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1D7667AC-0C4E-4EC0-A402-78442796AF2E}"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8F954906-2116-445B-B454-EC7D2327EAF7}"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0F34019C-7E22-4446-B5AE-A67FCC8AE415}"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949D6A29-3318-45E7-A3F7-4F8E1DB4AAA7}"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5640D96A-0961-48C5-A0AC-AD8349999A73}"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DB95F43-0CD4-4291-9A13-5EBE381467CF}"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7321A9B3-7802-4856-AE0C-12A817187B32}"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147C7057-993F-4921-919D-1895B93FCA9A}"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B5A49E6F-8365-4A34-A260-EAECECE20838}"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19F11339-4664-4A43-8C92-52BA4B2CC5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F8CF913-602B-4547-9061-CCAB8775DA25}"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A9FFFAD5-8FCA-4AC6-A6CD-693630E88D7E}"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9718774F-E5FD-40D8-9209-7B519ADFF66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AA012B4-1F03-44CD-BAB0-DFA1F267B5C1}"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DDCA130-0A0A-43AA-AA4F-4F6281591065}"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4A8CF33-1CCB-4326-B9AC-F0A3C0F0E9F9}"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3DE17FBE-CADA-44B7-B69E-ABC4B2057709}"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F249BE9D-E8C0-4826-9E61-9C6CF445312A}"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871233F-43D0-41D5-95B0-DBCF52BF7B66}"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C7B96B4-0B84-4A05-BB0D-F953DD0C3FE0}"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52DAD2DF-9DCF-4390-B79E-AC42BF30A6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8E135AD-6F69-46D4-8DC7-1BE8F56E031E}"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15C8419-BE2A-40F9-BCDB-AF65AA1709EB}"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EF01A05A-02D0-4BF8-96FF-5D7E01B9D099}"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1AB5BA95-B0E0-4419-85F8-C5FFBF2420EA}"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20FFDCB6-3B59-4745-A73C-DA9223320CE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23E0A9F3-81BB-477D-A84B-F6B72449CF68}"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C941C105-A42C-422C-A4B7-52A6637E8228}"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778C1B84-9183-429E-9266-800E8F207841}"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31E81290-5146-4C60-932F-8717016A0951}"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9D518EA8-0DE4-4CEA-8B64-6883411FB34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0D5BB91A-58C5-49AD-BB29-06059FA12C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1CCF114-FF29-4891-BE0E-B90377875B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C846B98-CF68-4DCE-84B5-188B9A02E52C}"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ED21B3BE-5447-48C2-9FC9-B22233E4FD8B}"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DA48B3ED-3671-478E-A0F0-B77691419FCB}"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1F968285-79AF-42D1-A62B-5F3AFDB6AED9}"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ADA50B5D-653A-47BE-97CE-560C6C311B9D}"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6157B3FD-B610-426C-A8C9-57CF4C96DDF5}"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927C4C18-2A28-4A33-B544-F16517DA5A51}"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2BFD42ED-8629-4CF7-97ED-1E9997F63E9F}"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013FC51-79D6-4698-AE2E-24AF1157BE9F}"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6FB3107C-3535-49D3-B91D-B8A442109D93}"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BD453CD0-3A1C-4389-8FBD-61448EB7CA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ADDE000-FB76-4553-9E97-35B215B2767D}"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BB6ABD0C-2BBD-4581-9070-BE0879C18A91}"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2DB4C0D-0B72-4F4C-BA44-9C67AE9DD130}"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1378C60F-EDC2-4C56-9BEB-1F1C45AA4793}"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3BEF0A8-29CA-4455-8396-7CFE85E5741C}"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4B99ED98-B801-45F1-9178-D1926D860FEF}"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8C6DCBFD-E571-45C6-963C-B768EDA4F812}"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887EBE2E-FF2A-45E1-A1EB-DC24341D12BF}"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B24BBA08-CBDD-48D8-888B-1A3C5DA819F3}"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9C1AA49B-617B-47B9-BB09-2953675D5C7F}"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0B8A1E02-5647-4901-8280-90B1C7E853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BCBE9B4-DD60-4ED5-9040-2EE6A0528FD2}"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D95689F5-3E47-4582-B388-FB329EF8C06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669AC3CB-93EF-4C51-A5D7-9AB6E7D8360A}"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988BA9F3-F489-4026-89CA-5387960E1B55}"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EF1BE207-3523-497A-BC59-A652A279762B}"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1F67FAB2-5307-4DBD-A136-D9780B9EEE8B}"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BD96EE6C-391C-4578-B742-335EDFED9C87}"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BF36EC32-E946-4BF8-BF21-45A8863CEC75}"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AFD92F93-9801-4F31-9580-F4A645EFEDC9}"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D287D795-46C5-4350-B11F-8BCA955F46F9}"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12CF829C-B344-42F5-9B07-D5C895E313E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9EC377D-D79A-4B59-8BC2-D83BBC04A65F}"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5C716FD6-E911-43B1-ADB4-8371DE66307A}"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21597F56-4C80-47AD-A389-67C0EF5B9816}"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FAB15040-EE31-4B30-8830-7ECF07F91F48}"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A509C04C-6709-4DA2-A26E-53A331CF1B07}"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A4BAFCD-FD51-4AEC-826B-715B9B0182BD}"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EA720E4E-5CDE-498E-866E-A0B36057A115}"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02575AD-F97A-485E-BE80-F3BD98923F46}"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4F5208A-7648-4A6C-AC77-3515689B99E9}"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85B32F3F-E04E-4F28-A8DC-E8BD5EA5A6DC}"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FFD1EAA-6B92-4B6E-BBDF-7FEF61E89C4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6AA42E2-EDAE-4D71-9F76-814C6F74F367}"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0E91710D-6748-4270-B369-8151BB3F853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BF56FA59-3882-4095-9690-CE8BB0385103}"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9B505585-051D-419C-8DCE-6A6FC06DAE1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90587FE-4709-4EBF-9BE6-A884B51404D0}"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2D76DDD5-40B2-408A-B29B-6CA7AA2CE8C8}"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2AF6758C-B7A1-45A1-947E-E842EF7D8F90}"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38E9C0A9-672D-46D1-A224-B7081C67C1E3}"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056AD7FB-649C-4B6D-AB6F-46803CAC51A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B47C95E5-7406-4CA0-A0FC-3428D8A3BD4B}"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31CAA51-3A01-4617-9396-250CDC4218E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108F68-BD00-4C30-AF48-040C4BF8AEF0}"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4307E4A9-9334-4D12-84A3-8C7450A3F71A}"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B8F8232B-7101-48AC-A831-35C8C22EC866}"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A988C36A-A6E8-4EA8-B2B5-DB539C4E550F}"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3248BA3F-E023-4632-AC76-FCB09B272137}"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B3536962-0A8B-4085-BAFC-A9F17AD551F3}"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849122E-EBCE-42F5-BF02-3CA8F06CF4C2}"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E9923D6A-7D35-48B2-A966-1C760FF2AFF1}"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29305F63-17AF-462B-ACA1-4367982D4038}"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890428D9-89D0-4342-AABD-EEAB889C98F3}"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7764CAC-0841-442A-A725-A7F79554F3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54DB456-FCC2-4635-B030-17F2AAF93C00}"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21CF1D1-9D3C-4AAB-B16C-230B4747E8B8}"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05F73EC-6BF1-4D36-B8DA-E6B206E4CC8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55CEBA34-C622-4F1D-806F-62035C3007E6}"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C5BF909C-49F0-45B5-A9D2-18285E091F47}"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8A648829-BAB1-488E-B830-877BBF2D7F48}"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5E79F321-FFEF-4C76-8133-7E0D597110C0}"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9C1CE571-E45C-4731-9DF9-0AA7D405E019}"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E64E5A5D-D0D3-4BD9-92B1-85238F9158AC}"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8A38F48E-C57D-4365-B5E6-F3F18D9CA516}"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2F7A88B9-9215-467F-9B19-55960C4C9C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8A79FDB-8AD7-424A-A69C-4249597536C5}"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567B7248-54E6-46C2-8EA4-DED3CB9DC13D}"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78D746BC-C808-42F6-AB69-AA2283333909}"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4D48C55-D759-439A-AE7B-1E61C6D8E290}"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0DC1A64E-A4F1-4A19-859C-BDA39D090B2E}"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4304C997-9FD4-4852-A040-A1D26BE36257}"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03A15B55-3A85-407E-9914-914949EB55C4}"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DC0DDCEF-CE84-4D82-AF49-E6421BA4D3D9}"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27B5A0FD-77A3-4181-9B64-A1F97E75AE1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56BDC291-798B-4155-9434-B3B67FE91E09}"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F70103E9-A266-43B9-A9F5-5367060430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6D3C2F5-1D66-4002-82A3-FEB5CE4AF3E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0C345DDF-6AEC-4613-9D5D-5788DA63E44F}"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696AEF43-0CAF-40D4-93BE-07FFDC0A94B3}"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23C23B6F-3D8A-47DF-A1F3-0B23778362AC}"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28E797C-58B6-45C8-BE07-7506333F1A73}"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A9A18E8-0B4F-434D-85F2-F54E55D6AB9A}"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67F3352B-EEEF-46DE-89D4-0E66E456117A}"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70ABA444-B74B-4FEB-A3BA-600C439ACD61}"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1876C6E6-6531-489B-B9CB-A6AD46A39231}"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01725CFA-B35E-4CD3-97A4-F765CC803FA9}"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4582938A-66B5-4C1A-B241-4A1CDECE7F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CFB4350-C532-4E76-ACE0-B387808DB253}"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31F8CC7-AB64-443D-835B-46C871D16A81}"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F68D4F31-FE4E-4B5D-BBDF-C28D113C6122}"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8B494615-9ECB-4015-BD6F-40D138B49A9D}"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BBF406E7-855D-4DF9-92C0-8D1018CC076F}"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5BE8A20C-B698-4664-B97E-7EE09BBEEC24}"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75C20587-FE76-4426-8BA6-A1550998C126}"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A954CCB-278F-4469-872A-662C706BDE0B}"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081BFA2-8312-4FBA-B67D-6B2EF18833F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246DCBB1-BC96-497E-9BE2-8FBAABD432B2}"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7DA5C91-C9B1-4D45-9FDF-494B562A2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E4DCDDA-84A0-4D4B-BA5C-2A33DFEB4B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3387784-3EBF-4218-A049-E1B2A35EA826}"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83B25540-3A79-443A-A636-14306F3CC27E}"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D006BB17-6131-4D9D-8942-952C88890B9B}"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0D3363C-5AA8-4FCA-B86F-F2FA63BDCA7B}"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93BD139-7F8C-4794-8687-1DB0C0F7EC39}"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608B854A-B4D9-4BD1-B27A-800DDFD67F49}"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C831772A-7EA4-470A-B1EE-7EFB66582D5D}"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7667CD1F-6B85-49DA-A163-BFD82688BE75}"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505439F-F4B1-4F65-9882-5ACE6B3AC19F}"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1A0E0D4-DE30-4A93-9F52-6AE9D3A892CE}"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9B5104F-1941-4449-BFEB-86D333B8202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99842CD-0D87-401A-A95A-330E0753F493}"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584374F8-C6A6-440A-9B52-74338D1C6EEA}"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9D98FC2F-49F2-428C-8C85-B012F2530673}"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4A3455AF-978F-4062-9535-BFF602B5B52E}"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CD102040-73FE-4735-A863-D9823E300CF1}"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C97EF77E-55F9-4583-A66F-F6C014378653}"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4B98E2DC-FFBB-4CA1-9460-A98EF37B06F5}"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BF013D3-D3B8-4780-9788-D166BED5DE36}"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4D60587C-B63B-49C1-BEA1-AF19B729C85F}"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CD4D2A7F-D92B-43B4-81A0-25620C9B6A71}"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DE38B88-9289-4CAB-9BEB-A537C944AF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C8E759C-B9C1-48F0-88E2-CC90A4952426}"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33E61CD-9E06-4E65-B191-AAB14DE45D8B}"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BC1513C-8F75-4B58-854F-3011212771D1}"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5DB5172C-BABA-4631-8B38-61FA0A4E64A1}"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16901B21-8AA1-4C6E-80C6-32B98B8B9C87}"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ACC48116-16CD-4C5D-B8A4-08E5769D893A}"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62ACE8DB-3B58-42F4-B0CD-F1E6E1292BB4}"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E7B0429-9A61-445E-ADF4-3A3C463467B3}"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8866B5D-A87B-4230-997B-85E94FE4C954}"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76697F8-8416-4B6A-B385-127C58BAEABD}"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50AC9532-715B-465D-8A7A-399ABD2D32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AE462C0-7760-47F9-B49B-EFFC7E4C6E97}"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CA166659-31E9-47A0-8D99-32A25A43434F}"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B0F72A5-F51F-400D-9651-52F8E83D5AEA}"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C76DB5A1-AD0D-4033-8687-166C4C69FA84}"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25DF919-29B4-4343-BBE6-DF66975DF1AA}"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383A1304-4FF2-4809-9CE0-E496BAC2E430}"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9445F8AF-B246-470F-9133-B1B302924DE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5FD4DF3E-B54D-4615-9D31-A4C3E4E0CB2B}"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A78E19CF-734F-47EB-9ADD-746D2B4DE7A2}"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6E58498D-845F-45BC-A44A-2ECA9B300E0E}"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DD04F01-6436-4D9F-B544-41C5FAA397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16C9C1A-35FF-4FC2-813A-167F515BCB97}"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B1CDC21-8E20-4986-9AB8-4528E5E66D88}"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0FBF193C-9009-4351-AC4B-B8EA28CE33CC}"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ED808B15-8A1E-4CD8-BA4B-2798A139B7C2}"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74AD858-16CF-413E-BD60-9AD145EF06BC}"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8114B816-874A-445C-A071-DF2130F6D5CB}"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FD8E4A2-5FCC-47DD-ABC9-975C576D5C08}"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7F21F78-37DD-41D1-835D-4F218E4EA6E9}"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58D5E3E0-3933-41E9-832E-80589D0B7374}"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FCE1C076-540E-40D5-9DDF-91246F126B1F}"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04E8A507-1C3C-41E3-98A1-47C1B2FF4A5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F2FCB52-F956-480D-A0AC-5B19A5BF7861}"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269CEADC-3168-4986-B2BA-639BFF1FB79F}"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3CA17BA4-6282-4C9B-B7FD-5F473D226106}"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BC3773B9-69E0-4E0B-84AE-56AE1DB39239}"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E7099872-74F9-4A3B-ADAC-83958E2B4838}"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345D666D-DBAD-4756-9651-91AB8B7BE15A}"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926B67B4-D89B-43A1-97DF-A721D229733C}"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D25F03A-2788-4BAB-B415-3CBB99CA84A7}"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44F96925-03AB-48F1-A351-FB9B239D18CC}"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4CBBB6B5-F1A3-4B3A-A90D-F6D13A124FD4}"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3F671047-041B-4B32-A587-9988C3B258B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0B2F8E7-BCBB-426D-82DC-928F6FD716A8}"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FA47111E-90B4-432A-A1BD-55C32B14571F}"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A3AFE73-EB9C-4F19-AA9C-543AE360BE2E}"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C8B8D63-6810-416A-B127-40A1E499A763}"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A5D487A2-A021-4370-88F2-CBE741A2CE11}"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0A523420-FD9F-4F1A-A03F-BB52D9595990}"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3AB1E0BA-6AF0-44A3-84C0-1926720FF518}"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C3C087C7-6CD9-476F-9BFA-CA657F8FD80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DDBD2281-8042-49A3-BA5E-8083FCE886A0}"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131AA2FE-638F-4422-922E-085E858B2500}"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EDECA04-44A6-464C-A01D-4772FFD916E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D2F108F-C265-4852-8617-EA4404203D96}"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02C756CE-08E7-4BDB-9A91-6FE641EB63D5}"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C541807-2FA5-4D1A-890E-F6F46D9FEECA}"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0A7F344C-6CAF-431E-A851-EB3C950FDAA5}"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B51F45F4-F319-45C4-9081-72F7C0892EA7}"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74137B5B-228D-491E-952A-DF49E50F76FC}"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F94601A1-72EF-4128-883F-AECD720A3EF0}"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79F2B6EA-825E-4CEA-AAD8-B7C65E280721}"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6B39082B-E8F5-4CB9-93CB-47EB68D34253}"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12716694-731F-4EBF-ADF7-02D2FA19D7F7}"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E2109507-0EAA-4054-B561-FC19B8BE47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3CF3826-4794-42B0-BE84-5BF3CA2E8CF9}"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0939C17C-0E06-4E57-A1D3-C32E960C4B9A}"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D0F11036-8497-4AEB-8A84-04953C911979}"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BA302218-AB36-4B79-8B25-3156F15C4B79}"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D3D0D29D-B9E5-4148-8DA9-297B021F8C17}"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AE72DA09-8F96-487F-8343-DC14B345A4AC}"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85A025B6-2498-47ED-A096-0398D371CBCB}"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43E5BA4D-6456-4DE6-B85A-A8C85C178F35}"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A78EBF44-3A5E-4C37-814C-7A2926A8F47B}"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1FF60F46-7085-44DA-A8EE-D29960A01150}"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BAA53F80-E499-475D-A37E-54873C4BA3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A8784B8-77DC-4BB3-A9D3-4D8CEE3CAB8D}"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61AAADBF-4CEE-43E0-ACFC-319BCB321B72}"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E261D82-3862-4023-9D10-8E4E125C57CD}"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7DBEE23D-61BB-4D3C-A15D-DE6365A809BA}"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6257E5F5-83F0-4060-BD84-AB7511567C73}"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DDB6A206-5825-45DF-B2AB-C7786AAA5C84}"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860C92E9-705E-4366-9F8E-6E6B7E005A7D}"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8AC9F474-8BE5-47E9-98E9-CD2D7E7C7C16}"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BC386C81-D514-4B8B-825A-9483A1121B04}"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C2BCCFF0-4333-4DDB-9D77-E500479F6F34}"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3A54AC95-0FF3-4336-B22A-A7C393B5F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23691-237E-4A55-B2A0-4FDC4CBE8B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22FB3-F004-4189-88E9-0969D53535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B9913-ECAF-45E0-BD9E-D833B112A9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58CEA-2211-4988-AE2F-D94C9AB7E1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D257F-660F-414C-9ACA-9A6AA7628D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B1FCB-BBC9-4587-951D-FD8E127F41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26DBD-8509-4DFE-9B27-85E54514F9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AD4C3-EB5B-48E3-B8A3-EAE90B9C90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86989-3ED3-43D8-98E9-E0B5ACCE6A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CB864-0F43-454F-BA8C-97AC6AAFDE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9F427-B31D-4D1B-A41B-FFA848C632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D538F-A1C7-40A2-97AB-3978B2362C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A0284-EC4E-48AE-8146-BC403DA951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0127C-D9E0-4A9D-AA8C-70A5E51211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BDF6D-7259-422E-AA3F-B928F23E3B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356E9-80A2-4B04-BB5C-523C3F0B49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E3E45-473F-46F8-806A-30A623CABF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23DBF-B5DE-4E42-99C5-21B41CD9A6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EDF7F-9666-44BB-84DF-5B2835D52F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5CB94-8998-4808-9026-FCD098F834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4E104-2471-4F2A-A7CC-6F0788773E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11C8A-9D76-4CA8-B534-A190A0676F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205B7-F558-4FAC-913E-1C26C4F93A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D0556-9A61-4E55-AF18-828074CBC9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F6566-9EC8-4FB4-8224-6904234681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66934-8DB1-4745-BCFF-F26051D0F9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CD996-BE9A-41BA-9BAB-1157C09772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4CCA-9826-41C0-97AE-4F1C61F440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31561-26AF-4893-B82B-9484ADC242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48326-7464-407F-A8C6-2BC0151CE3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4628A-7F89-40B9-9AAE-217AC85F00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D157F-1EE2-4A59-A3C3-5891A1D25B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5072B-91A5-4792-B3A6-4359099201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B6B67-E4E5-4B03-BE35-6A940931A2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834AB-C4CA-4554-87A7-89FEC287843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552A6-F680-4255-9FB5-308084858D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74180-6529-4CF7-9C2D-15F810E3ED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2001F-C952-49C4-9697-2CC155762A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90F70-5621-4790-8C4C-597B2B4DA3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6C3A5-C791-4E9D-86CE-6FA6689258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E4BB9-FA44-4149-88BA-62317E507E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C7FE5-25BC-43EC-A5E9-BD000B2118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C0E8D-93F8-457A-B0A1-DAE1C6673E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91140-9827-479D-8F84-C149D437E6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C06C9-ABE2-4EAD-BAB5-D74A2B7291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940E9-BC83-42F1-BAA4-023DA25AC1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B0503-D4F7-4173-AA67-0DA2474E20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54BEF-DC21-4717-B85C-C0DEBE45BC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24DCF-6A43-48EE-A823-2A85EB9F71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74A96-5152-4E09-99ED-671B6333F6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037EA-EBC3-4541-8509-3C568458AB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1D49F-A1DB-4C3B-BA9E-88D22CA865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FA050-D5A3-4E12-BA0F-8D7D37D6FED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C60B5-9F2F-4E96-92DF-0328370EE05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F02A6-3517-44A2-9F96-5D4D06F5ED7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6D7C3-0EAB-4E46-8279-6981E784023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9E29A-D69A-4498-B74F-81D2B9421A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9FD2D-B566-4EC0-ADCC-6512CA8DBE1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9BC74-258A-4D6D-B318-BD780E27233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9FCD2-60BD-4F4E-AB76-85AC72D8806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F3B4C-EE76-4757-8BE2-7DB2D1889F3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9EC43-9C5E-4414-8246-682190089F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C3F49-52DD-441B-BBC8-456ED2EDBEF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90202-5571-456B-8541-CC25EE470D8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37025-A6D8-4AC9-85F8-9C56241B06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3B761-C95E-4E51-9D72-EC84FCA85E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32697-C347-466B-9B02-40F917D5E6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1B61A-2D00-4AAE-9C54-DCCE8E233C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3CD61-A77A-4439-B259-59FFC06775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640BE-C469-446C-894A-40C3DE359F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82DD2-0922-4EDF-B2AA-093B3B426E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BAB25-1139-4297-8091-BB1FBD7217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EF3AF-E6B1-444F-B946-2B43E2E3AA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3893B-871F-439E-A082-4862A9B21F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1F969-E35D-40E9-8960-4AAE53F25D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BD475-7A61-4FEE-8FF4-948872CEB4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4F449-B118-4A96-BEA8-3A2CB683A4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E3CE3-6B65-4647-B27A-D1BC125EED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979AA-ECA6-4D26-9C38-68FE5D877A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8630E-F2D2-4331-A9F9-5FC223194E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2D131-8945-4C25-B94C-CF13BBE6EF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705B9-D842-4465-BEC8-BBF38FB2D5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94CD0-A54E-440B-B27F-AC6000078C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EAF18-63A3-4B39-9E33-A1C53A9D5B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9B501-4983-46B5-97C7-B4867CB737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7FF10-6848-4D9D-BDD1-A4EEA80362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594AE-80F0-4165-9522-128A139098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949A9-1077-47A0-9C7B-17AD61A3D2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5AA97-CF1F-4686-A4A8-4CD5918A15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D11A9-AAB6-45E7-B075-BBA0462508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70942-E1B5-4C75-86D5-9E064E047C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D39F6-A6BB-411C-8BEA-5952DF1FAA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B40DE-79B0-4299-8B00-AF67B4F0B3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F843F-C30D-484B-A667-0E95D14615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98DC2-8730-431C-8AA0-151E28AC14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91D6B-B5B0-4478-9CC7-FF63E81892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488BB-9EB0-4DC2-99B0-8D9DAB81FF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6F437-C7DD-45F5-B784-72AB6938EB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AE0AD-0594-4488-8F5C-8B11F56F56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62F3A-7DC8-4037-9354-6B2BA50C01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B5BF5-473F-4EA0-B72B-35CC68A58B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D4275-9BD3-4B13-A91F-CAC56DF08C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A9D0F-CA09-4C95-BC90-690B4B877B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2A7AA-539F-4E04-B2A5-2D948F9C42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8982C-ED9F-4F77-97D1-E270FCBDEC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BD428-AA91-4E5F-9B2B-955688839D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06DBE-9124-4B54-AB46-A7E99A80C8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AD17A-34D6-4C3D-8C22-46896729BE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0CD85-C73C-4AE3-9553-65A6D98F76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7C2D9-F8E1-4E7F-8F4C-3E4967D27D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D535B-EED4-41BF-AC77-9DB49DD161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12E87-C211-4ED7-9BB7-9DEA8FB2E6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909CA-5C4C-4042-959D-825253A44A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DA4DC-6320-4954-A7B0-99E2258BDB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87173-7149-48EF-AD60-4D5479BB82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9BD0E-2A5A-45EF-9015-FCC2F46C6F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71D21-92DF-48ED-8F48-2EC47387E0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B593D-EF3C-4564-81C9-C8F06805E0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B1364-C69C-4DDE-87D4-3C91F2078D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7FA84-DFE8-4FEE-8272-6720EF5B9A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9DD27-ACFE-4F61-9AE7-7B6A66E856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DB915-158E-4064-9A7A-34BBFB5898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CD351-C25D-4D1D-94E6-77654DE370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C8EFD-80AD-4D6A-BC28-503D608AF4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BAC8F-0091-43AB-BFF6-F6E8F7FB95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B1779-BB5C-435E-8FDB-1819BBA746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16982-FC36-4E32-A9F7-FB77DAC5D6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10C70-1EEA-42D5-B3E4-2196FE23B7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6E4A9-EA8D-41DD-88BB-AE8944123D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3C834-32C9-4576-9D5E-C4E73D52ED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47418-322B-4141-8CBA-C9F184D2BF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ABCDF-B763-44E3-B5B3-47DCB979A3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8662A-BD59-4A5E-A59E-CBD466C3AC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1902D-686C-46CD-A041-2E2587589F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1EE75-47F9-4F1F-B6A9-9531D170BF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93F97-78DD-4406-8A40-58D0844399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995AB-759B-4EA1-B58A-410B6EE160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A7E9D-087A-4F24-9CEB-89FEE9C5BF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C9826-F304-428E-8684-D101F4259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92F61-3C07-482B-BE1B-E8642A5800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3FC1E-687F-4C94-B6DF-3633426E2D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AF0F1-8F9D-4287-B199-4A6F7D3C41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7D654-751F-4B7F-9196-782CF400A8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B0ECB-D4CE-41A1-A891-425A295332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3BDB3-1E93-4DB7-B966-8EFF7E0345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A2243-7D44-44FA-9816-B72FD851E3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268AC-4E43-4969-B4EA-EE373F0FFF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2CB3C-2206-4B96-B2EC-5D8D51CB95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D4E62-E80A-45F3-BEB2-3510D4DE27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F7346-59F2-4309-9F7D-D7E7279F95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D91FC-9AF9-4654-B524-D36F112649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52A40-537D-42EB-AACE-F002B10E3E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C14FF-2DC5-41D6-98A2-F168C4062F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1A72D-69B1-4D76-88BF-D4ADA9D930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B2F23-C67A-4404-BC41-0F3D7D829A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52C8D-FCDF-4BE0-8CD0-6D932967CB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357120" y="1268280"/>
            <a:ext cx="84297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591" name="Picture 2" descr=""/>
          <p:cNvPicPr/>
          <p:nvPr/>
        </p:nvPicPr>
        <p:blipFill>
          <a:blip r:embed="rId1"/>
          <a:stretch/>
        </p:blipFill>
        <p:spPr>
          <a:xfrm>
            <a:off x="0" y="0"/>
            <a:ext cx="9144000" cy="1368360"/>
          </a:xfrm>
          <a:prstGeom prst="rect">
            <a:avLst/>
          </a:prstGeom>
          <a:ln w="0">
            <a:noFill/>
          </a:ln>
        </p:spPr>
      </p:pic>
      <p:pic>
        <p:nvPicPr>
          <p:cNvPr id="6592" name="Picture 3" descr=""/>
          <p:cNvPicPr/>
          <p:nvPr/>
        </p:nvPicPr>
        <p:blipFill>
          <a:blip r:embed="rId2"/>
          <a:stretch/>
        </p:blipFill>
        <p:spPr>
          <a:xfrm>
            <a:off x="1258920" y="2060640"/>
            <a:ext cx="1297080" cy="1528560"/>
          </a:xfrm>
          <a:prstGeom prst="rect">
            <a:avLst/>
          </a:prstGeom>
          <a:ln w="0">
            <a:noFill/>
          </a:ln>
        </p:spPr>
      </p:pic>
      <p:pic>
        <p:nvPicPr>
          <p:cNvPr id="6593" name="Picture 4" descr=""/>
          <p:cNvPicPr/>
          <p:nvPr/>
        </p:nvPicPr>
        <p:blipFill>
          <a:blip r:embed="rId3"/>
          <a:stretch/>
        </p:blipFill>
        <p:spPr>
          <a:xfrm>
            <a:off x="6948360" y="1989000"/>
            <a:ext cx="1444680" cy="1573200"/>
          </a:xfrm>
          <a:prstGeom prst="rect">
            <a:avLst/>
          </a:prstGeom>
          <a:ln w="0">
            <a:noFill/>
          </a:ln>
        </p:spPr>
      </p:pic>
      <p:sp>
        <p:nvSpPr>
          <p:cNvPr id="6594"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5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411" name="Group 2"/>
          <p:cNvGrpSpPr/>
          <p:nvPr/>
        </p:nvGrpSpPr>
        <p:grpSpPr>
          <a:xfrm>
            <a:off x="0" y="306360"/>
            <a:ext cx="9140760" cy="6548400"/>
            <a:chOff x="0" y="306360"/>
            <a:chExt cx="9140760" cy="6548400"/>
          </a:xfrm>
        </p:grpSpPr>
        <p:grpSp>
          <p:nvGrpSpPr>
            <p:cNvPr id="6412" name="Group 3"/>
            <p:cNvGrpSpPr/>
            <p:nvPr/>
          </p:nvGrpSpPr>
          <p:grpSpPr>
            <a:xfrm>
              <a:off x="0" y="306360"/>
              <a:ext cx="9140760" cy="6548400"/>
              <a:chOff x="0" y="306360"/>
              <a:chExt cx="9140760" cy="6548400"/>
            </a:xfrm>
          </p:grpSpPr>
          <p:sp>
            <p:nvSpPr>
              <p:cNvPr id="6413"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ffffff"/>
              </a:solidFill>
              <a:latin typeface="Times New Roman"/>
            </a:endParaRPr>
          </a:p>
        </p:txBody>
      </p:sp>
      <p:grpSp>
        <p:nvGrpSpPr>
          <p:cNvPr id="6420" name="Group 2"/>
          <p:cNvGrpSpPr/>
          <p:nvPr/>
        </p:nvGrpSpPr>
        <p:grpSpPr>
          <a:xfrm>
            <a:off x="0" y="306360"/>
            <a:ext cx="9140760" cy="6548400"/>
            <a:chOff x="0" y="306360"/>
            <a:chExt cx="9140760" cy="6548400"/>
          </a:xfrm>
        </p:grpSpPr>
        <p:grpSp>
          <p:nvGrpSpPr>
            <p:cNvPr id="6421" name="Group 3"/>
            <p:cNvGrpSpPr/>
            <p:nvPr/>
          </p:nvGrpSpPr>
          <p:grpSpPr>
            <a:xfrm>
              <a:off x="0" y="306360"/>
              <a:ext cx="9140760" cy="6548400"/>
              <a:chOff x="0" y="306360"/>
              <a:chExt cx="9140760" cy="6548400"/>
            </a:xfrm>
          </p:grpSpPr>
          <p:sp>
            <p:nvSpPr>
              <p:cNvPr id="6422"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8:36Z</dcterms:modified>
  <cp:revision>1</cp:revision>
  <dc:subject/>
  <dc:title/>
</cp:coreProperties>
</file>